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494493342899595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0494493342899595"/>
                  <c:y val="0.2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"/>
                  <c:y val="0.2687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6400</c:v>
                </c:pt>
                <c:pt idx="1">
                  <c:v>23840</c:v>
                </c:pt>
                <c:pt idx="2">
                  <c:v>22968</c:v>
                </c:pt>
                <c:pt idx="3">
                  <c:v>17714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Факт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Lbls>
            <c:numFmt formatCode="0.00" sourceLinked="0"/>
            <c:dLbl>
              <c:idx val="0"/>
              <c:layout>
                <c:manualLayout>
                  <c:x val="-0.0032966222859973"/>
                  <c:y val="0.1906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164831114299865"/>
                  <c:y val="0.20937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0164831114299865"/>
                  <c:y val="0.2281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0164831114299865"/>
                  <c:y val="0.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6354.02</c:v>
                </c:pt>
                <c:pt idx="1">
                  <c:v>25431.86</c:v>
                </c:pt>
                <c:pt idx="2">
                  <c:v>22871.9</c:v>
                </c:pt>
                <c:pt idx="3">
                  <c:v>17093.37</c:v>
                </c:pt>
              </c:numCache>
            </c:numRef>
          </c:val>
        </c:ser>
        <c:gapWidth val="150"/>
        <c:overlap val="0"/>
        <c:axId val="98467339"/>
        <c:axId val="81627981"/>
      </c:barChart>
      <c:catAx>
        <c:axId val="98467339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 rot="-5400000"/>
          <a:lstStyle/>
          <a:p>
            <a:pPr>
              <a:defRPr b="0" sz="17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81627981"/>
        <c:crosses val="autoZero"/>
        <c:auto val="1"/>
        <c:lblAlgn val="ctr"/>
        <c:lblOffset val="100"/>
        <c:noMultiLvlLbl val="0"/>
      </c:catAx>
      <c:valAx>
        <c:axId val="81627981"/>
        <c:scaling>
          <c:orientation val="minMax"/>
        </c:scaling>
        <c:delete val="0"/>
        <c:axPos val="l"/>
        <c:majorGridlines>
          <c:spPr>
            <a:ln w="1260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98467339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Palatino Linotyp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C2C371-D095-4A97-8E58-AFC8CF3AD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D10E10-B50C-4BDF-BE70-6AEB9A27E2D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350C76-FBB1-43B3-B55B-F4B8532D731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BD5D1C-5666-46F5-919C-BF623397914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AE64-4171-4315-A849-6FB3E2C0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3446-D7C2-4F78-BE38-0666F6C1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74EC-9DDE-44A0-897D-38245D2D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C8D7-10AD-4A38-A9A4-DB4DAB7E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80641-F400-42E8-88C8-A5548D01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30552-51EA-4AF5-8F41-674F9982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C0AA0-3947-4064-A38B-31D2A44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A20EB-318B-44DA-8FE4-920D5BDF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C2906-8CB0-4769-AE3B-16469D9F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2A7CE-2E33-4070-8221-158F34CC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7AAB2-73A6-4004-82CF-DE8FD351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8BD7-A0DB-4E06-AB17-926C9016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1A102-BE40-4CA1-909A-05C10C1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00858-84C6-4917-9D93-F6E1C5B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E262-70A9-4A2B-8726-2373654F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C8D96-DA85-4DF8-BCAC-63E03115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EF34-57C1-4156-BB69-A0F79054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3A3A-A98D-442E-A501-1B153C93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1945-4D39-47EA-A0C1-8191E8B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CE52-7FD1-4F05-8084-ACA6B94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2781-D535-45ED-B926-5995C5E1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A0E7-0FA8-490A-B820-D7407E74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EB87-D522-47B9-8816-E69571B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032F-22BD-4EB0-A253-F72E207E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EAE3687-5497-4086-9B21-D64A42F30F4F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66B815-0BFC-40AB-87C6-1A8FAB06A051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Таблица 7"/>
          <p:cNvGraphicFramePr/>
          <p:nvPr/>
        </p:nvGraphicFramePr>
        <p:xfrm>
          <a:off x="263160" y="5013000"/>
          <a:ext cx="8772840" cy="1756440"/>
        </p:xfrm>
        <a:graphic>
          <a:graphicData uri="http://schemas.openxmlformats.org/drawingml/2006/table">
            <a:tbl>
              <a:tblPr>
                <a:effectLst>
                  <a:outerShdw dist="50760" dir="5400000" blurRad="50760" rotWithShape="0">
                    <a:srgbClr val="000000"/>
                  </a:outerShdw>
                </a:effectLst>
              </a:tblPr>
              <a:tblGrid>
                <a:gridCol w="2004120"/>
                <a:gridCol w="6768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Докладчик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Начальник финансового  управления администрации муниципального образования Веневский рай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монов Анатолий Митрофан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Заголовок 1"/>
          <p:cNvSpPr/>
          <p:nvPr/>
        </p:nvSpPr>
        <p:spPr>
          <a:xfrm>
            <a:off x="395640" y="980640"/>
            <a:ext cx="828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О результатах реализации майских Указов Президента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 01.06. 2016 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639720" y="2021760"/>
            <a:ext cx="800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21758,8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6.2016г. – 2693,0 тыс.руб.(1%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т плана)-организация водоснабжения в поселениях района: АМО Грицовское, АМО Центральное, АМО Мордвесское, оплата за замену регулятора давления в д.Кукуй, техобслуживание газового оборудования. Запланирована модернизация котлового оборудования котельной «Южная» Веневск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467640" y="1124640"/>
            <a:ext cx="8136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Модернизация и капитальный ремонт объектов коммунальной инфраструктуры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928800" y="3933000"/>
            <a:ext cx="728640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52720" y="2203200"/>
            <a:ext cx="4822920" cy="360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40" name="TextBox 5"/>
          <p:cNvSpPr/>
          <p:nvPr/>
        </p:nvSpPr>
        <p:spPr>
          <a:xfrm>
            <a:off x="5436000" y="1556640"/>
            <a:ext cx="331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соответствии с законодательством Российской Федерации на 01.09.2015г. 16 молодых семей в Веневском районе признаны нуждающимися в улучшении жилищных условий . В 2016 году запланировано улучшение жилищных условий 7-ми сем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436000" y="1556640"/>
            <a:ext cx="331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: всего 744,3 тыс.руб., в том числе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15,2 тыс.руб. – средства районного бюдж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381,3 тыс.руб. – средства бюджета Ту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47,8 тыс.руб. – 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98240" y="2061000"/>
            <a:ext cx="46800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755640" y="2325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1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сновных направлениях совершенствования системы государственного управ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3348000" y="742680"/>
            <a:ext cx="56131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 «Развитие информационного общества и формирование электронного правительства в Веневском районе» муниципальной программы «Повышение общественной безопасности населения и развитие местного самоуправлении в муниципальном образовании Веневский район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-1963,8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6.16г. – 119,0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6% от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казание услуг по разработке нового сайта для МУК «МЦБС», оказание услуг связи для МУК «ВКМ», МУК «МЦБС», МУК «МКДЦ», информационное обслуживание СПС Консультант Плюс АМО Веневский рай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0" y="3662280"/>
            <a:ext cx="5077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2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C:\Users\Катрина\Desktop\School-Computer-Lab.jpg"/>
          <p:cNvPicPr/>
          <p:nvPr/>
        </p:nvPicPr>
        <p:blipFill>
          <a:blip r:embed="rId1"/>
          <a:stretch/>
        </p:blipFill>
        <p:spPr>
          <a:xfrm>
            <a:off x="320040" y="1416240"/>
            <a:ext cx="2910600" cy="449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9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7"/>
          <p:cNvSpPr/>
          <p:nvPr/>
        </p:nvSpPr>
        <p:spPr>
          <a:xfrm>
            <a:off x="520200" y="116640"/>
            <a:ext cx="85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 мерах по реализации демографической политики Российской Федераци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52200" y="1374120"/>
            <a:ext cx="44640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правление муниципальными финансами в муниципальном образовании Веневский район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выплата материнского капитала в разм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1077,5 руб. – на второго ребенк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6616,25 руб.- на третьего и последующ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 -1840,0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6.16г. 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569,9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31% от пла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320040" y="1556640"/>
            <a:ext cx="4232160" cy="3672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53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4680" y="2448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467640" y="11664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08 года № 7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беспечении жильем ветеранов Великой Отечественной войны 1941-1945 годов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3780000" y="764640"/>
            <a:ext cx="439200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Развитие мер социальной поддержки отдельных категорий граждан» государственной программы «Социальная поддержка и социальное обслуживание населения Туль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редусмотрено обеспечение жильем нуждающихся в улучшении жилищных условий ветеранов ВОВ, членов семей погибших (умерших) инвалидов и участников ВОВ, имеющих право на соцподдержку согласно ФЗ «О ветеранах» и ФЗ «О социальной защите инвалидов в Российской Федер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-3020,9 тыс.руб. – 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ыделена субсидия в сумме 1208,4 тыс.руб. вдове умершего ветерана ВОВ 1941-1945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C:\Users\Катрина\Desktop\W2mVIlff3kY.jpg"/>
          <p:cNvPicPr/>
          <p:nvPr/>
        </p:nvPicPr>
        <p:blipFill>
          <a:blip r:embed="rId2"/>
          <a:stretch/>
        </p:blipFill>
        <p:spPr>
          <a:xfrm>
            <a:off x="251640" y="1484640"/>
            <a:ext cx="3105720" cy="416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1"/>
          <p:cNvSpPr/>
          <p:nvPr/>
        </p:nvSpPr>
        <p:spPr>
          <a:xfrm>
            <a:off x="447120" y="2637000"/>
            <a:ext cx="826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 cap="all">
                <a:solidFill>
                  <a:srgbClr val="ffffff"/>
                </a:solidFill>
                <a:latin typeface="Palatino Linotype"/>
              </a:rPr>
              <a:t>БЛАГОДАРЮ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6"/>
          <p:cNvGraphicFramePr/>
          <p:nvPr/>
        </p:nvGraphicFramePr>
        <p:xfrm>
          <a:off x="899640" y="548640"/>
          <a:ext cx="7704360" cy="6156360"/>
        </p:xfrm>
        <a:graphic>
          <a:graphicData uri="http://schemas.openxmlformats.org/drawingml/2006/table">
            <a:tbl>
              <a:tblPr/>
              <a:tblGrid>
                <a:gridCol w="551880"/>
                <a:gridCol w="7152480"/>
              </a:tblGrid>
              <a:tr h="66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Указы Президента Российской Федерации от 07.05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7 «О мероприятиях по реализации государственной социальной поли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9 «О мерах по реализации государственной политики в области образования и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0 «О мерах по обеспечению граждан Российской Федерации доступным и комфортным жильем и повышению качества жилищно-коммунальных усл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1 «Об основных направлениях совершенствования системы государственного управл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6 «О мерах по реализации демографической политики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131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14 от 7 мая 2008г. «Об обеспечении жильем ветеранов Великой Отечественной войны 1941-1945 г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1052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7640" y="12996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1"/>
          <a:stretch/>
        </p:blipFill>
        <p:spPr>
          <a:xfrm>
            <a:off x="-24120" y="1075680"/>
            <a:ext cx="3659760" cy="4152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02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12960" y="105120"/>
            <a:ext cx="639360" cy="64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3"/>
          <p:cNvGraphicFramePr/>
          <p:nvPr/>
        </p:nvGraphicFramePr>
        <p:xfrm>
          <a:off x="3924000" y="1441080"/>
          <a:ext cx="4839120" cy="4829040"/>
        </p:xfrm>
        <a:graphic>
          <a:graphicData uri="http://schemas.openxmlformats.org/drawingml/2006/table">
            <a:tbl>
              <a:tblPr/>
              <a:tblGrid>
                <a:gridCol w="2678760"/>
                <a:gridCol w="2160000"/>
              </a:tblGrid>
              <a:tr h="36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016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едняя з/пл. в Тульской области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з/пл. в сфере общего образован.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 з/пл. учителей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222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роц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образовательных учреждений общего образования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дошкольных образовательных учреждений (от средней з/пл в сфере общего образ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учреждений дополнительного образования детей (от  средней з/пл. учителе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296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Работники учреждений культуры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7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77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7640" y="129960"/>
            <a:ext cx="86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Средняя заработная плата работников бюджетной сф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на 01.04. 2016 года,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Диаграмма 3"/>
          <p:cNvGraphicFramePr/>
          <p:nvPr/>
        </p:nvGraphicFramePr>
        <p:xfrm>
          <a:off x="665640" y="1989000"/>
          <a:ext cx="77043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06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7640" y="129960"/>
            <a:ext cx="835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олная потребность в средствах на реализацию Указа 5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на 2016 год – 3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9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млн. 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редусмотрено в бюджете муниципального образования Веневский район на 2016 год – 32,3 млн.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Объем недостающих средств – 1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 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051640" y="3933000"/>
            <a:ext cx="5112360" cy="237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418320" y="188640"/>
            <a:ext cx="82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3640" y="3899880"/>
            <a:ext cx="83552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4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Мероприятия реализуются  в рамках подпрограмм «Развитие дошкольного образования» (план – 13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390,0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,исполнено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  -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2196,0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) и «Развитие дополнительного образования детей» (план – 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813,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 исполнено 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–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628,40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) муниципальной программы «Развитие образования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7640" y="159840"/>
            <a:ext cx="756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599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реализации государственной политики в области образования и нау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4463640" y="764640"/>
            <a:ext cx="46450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оступность дошк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бразования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ля детей в возрасте от 3 до 7 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г. –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Увеличение к 2020г. числа детей в возрасте от 5 до 18 лет, обучающихся по дополнительным образовательным программам  в общей численности детей этого возраста  до 70-75 % (50 % из них должны обучаться за счет средств федерального бюдж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Катрина\Desktop\09ac72b9e68dd8bd651098a0c17b43f2.jpg"/>
          <p:cNvPicPr/>
          <p:nvPr/>
        </p:nvPicPr>
        <p:blipFill>
          <a:blip r:embed="rId1"/>
          <a:stretch/>
        </p:blipFill>
        <p:spPr>
          <a:xfrm>
            <a:off x="690480" y="980640"/>
            <a:ext cx="3096000" cy="2865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1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76320" y="676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140000" y="795960"/>
            <a:ext cx="48963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«Комплексное развитие муниципального образования Веневский район в сфере жилищно-коммунального комплекса 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520" y="4968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14840" y="3406680"/>
            <a:ext cx="884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«Устойчивое развитие сельских территорий  Веневского района Тульской области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Модернизация и капитальный ремонт объектов коммунальной инфраструктуры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C:\Users\Катрина\Desktop\1441697363_remontnye-raboty-gazoprovod.jpg"/>
          <p:cNvPicPr/>
          <p:nvPr/>
        </p:nvPicPr>
        <p:blipFill>
          <a:blip r:embed="rId1"/>
          <a:stretch/>
        </p:blipFill>
        <p:spPr>
          <a:xfrm>
            <a:off x="335880" y="1016280"/>
            <a:ext cx="3587760" cy="2383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C:\Users\Катрина\Desktop\image.jpg"/>
          <p:cNvPicPr/>
          <p:nvPr/>
        </p:nvPicPr>
        <p:blipFill>
          <a:blip r:embed="rId2"/>
          <a:stretch/>
        </p:blipFill>
        <p:spPr>
          <a:xfrm>
            <a:off x="15840" y="622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639720" y="198900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8084,2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500,00тыс.руб.-средства районного бюдж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50,7 тыс.руб.-средства бюджета Ту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33,5 тыс.руб. –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6.16г. -  2814,8 тыс.руб.(35% от плана), 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231,1 тыс.руб. –средства районного бюдж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50,4тыс.руб.-средства бюджета  Ту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33,3тыс.руб.-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467640" y="1124640"/>
            <a:ext cx="813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стойчивое развитие сельских террито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Веневского района Тульской области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361160" y="4149000"/>
            <a:ext cx="634968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639720" y="1989000"/>
            <a:ext cx="80002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рамках реализации подпрограммы «Устойчивое развитие сельских территорий Веневского района»  выполнены следующие работы: оплата за экспертизу проектной документации по об. «Газификация д.Бяково», оказание услуг по технадзору за качеством строительства об.«Газификация с. Щучье» и «Газификация сл. Стрелецкая», оплата за реконструкцию водопроводных сетей пос. Оленьковский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,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огласование, проверка проектной документации по об. «Газификация с. Трухачевка (2 очередь)», проверка достоверности сметной стоимости, экспертиза ПД по об. «Газификация с. Венев-Монастырь», проверка сметной документации на реконструкцию водопроводных сетей пос. Мордвес и пос. Грицовский Веневского района, газификация сл.Стрелецк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8138</TotalTime>
  <Application>LibreOffice/7.4.7.2$Linux_X86_64 LibreOffice_project/40$Build-2</Application>
  <AppVersion>15.0000</AppVersion>
  <Words>1111</Words>
  <Paragraphs>1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0:18:48Z</dcterms:created>
  <dc:creator>Когтева Надежда Борисовна</dc:creator>
  <dc:description/>
  <dc:language>en-US</dc:language>
  <cp:lastModifiedBy>User</cp:lastModifiedBy>
  <cp:lastPrinted>2013-12-05T05:05:20Z</cp:lastPrinted>
  <dcterms:modified xsi:type="dcterms:W3CDTF">2016-06-06T06:47:57Z</dcterms:modified>
  <cp:revision>1054</cp:revision>
  <dc:subject/>
  <dc:title>о реализации отдельных указов Президента Российской Федерации и мониторингу достижения указанных в них целевых показ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