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"/>
                  <c:y val="0.2281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494493342899595"/>
                  <c:y val="0.2281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0494493342899595"/>
                  <c:y val="0.2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"/>
                  <c:y val="0.2687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6400</c:v>
                </c:pt>
                <c:pt idx="1">
                  <c:v>23840</c:v>
                </c:pt>
                <c:pt idx="2">
                  <c:v>22968</c:v>
                </c:pt>
                <c:pt idx="3">
                  <c:v>17714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Факт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Lbls>
            <c:numFmt formatCode="0.00" sourceLinked="0"/>
            <c:dLbl>
              <c:idx val="0"/>
              <c:layout>
                <c:manualLayout>
                  <c:x val="-0.0032966222859973"/>
                  <c:y val="0.1906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164831114299865"/>
                  <c:y val="0.20937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0164831114299865"/>
                  <c:y val="0.2281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0164831114299865"/>
                  <c:y val="0.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4202.45</c:v>
                </c:pt>
                <c:pt idx="1">
                  <c:v>26411.85</c:v>
                </c:pt>
                <c:pt idx="2">
                  <c:v>21450.26</c:v>
                </c:pt>
                <c:pt idx="3">
                  <c:v>17593.46</c:v>
                </c:pt>
              </c:numCache>
            </c:numRef>
          </c:val>
        </c:ser>
        <c:gapWidth val="150"/>
        <c:overlap val="0"/>
        <c:axId val="66895000"/>
        <c:axId val="97725733"/>
      </c:barChart>
      <c:catAx>
        <c:axId val="66895000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 rot="-5400000"/>
          <a:lstStyle/>
          <a:p>
            <a:pPr>
              <a:defRPr b="0" sz="17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97725733"/>
        <c:crosses val="autoZero"/>
        <c:auto val="1"/>
        <c:lblAlgn val="ctr"/>
        <c:lblOffset val="100"/>
        <c:noMultiLvlLbl val="0"/>
      </c:catAx>
      <c:valAx>
        <c:axId val="97725733"/>
        <c:scaling>
          <c:orientation val="minMax"/>
        </c:scaling>
        <c:delete val="0"/>
        <c:axPos val="l"/>
        <c:majorGridlines>
          <c:spPr>
            <a:ln w="1260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66895000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Palatino Linotyp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EC066C-0E54-466B-8E6E-22D28E610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2388EA-50AA-4BE8-A563-632442F5BCF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E8ACED-8A0D-4143-84AF-2D9B0AD28A7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4F0664-4297-4094-A4A0-E3EE988FB25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2B07-D94F-49DD-B02C-68717DC0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5CBE-9153-4341-B115-F03B4478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3052-2993-4607-8CA5-3E48DF98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A0BF-AB6D-4E37-8DB6-E1165B9D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9697F-D237-4BA1-B4FF-C58AFEFC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A7AEF-7C76-4121-889A-9A595C33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697FD-82DB-4DFA-B081-ECD8530D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E5E52-7954-4C50-88A5-351D4AB8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B9C10-24FC-4463-B8A7-273EE741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DF13A-EE10-453A-A322-5C662757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F25FC-CAF9-4EEE-89DD-289AAF5C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3061-4057-4E3E-A23B-65CA883F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7EA5A-C4AD-4A4E-BC43-88F1528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68333-CD9A-4566-9DBD-CA27373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5618A-F624-4362-9E65-ECDEBB3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655CD-1278-4644-B601-2607211F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AF8F6-12D9-4F91-BD11-5C0517BE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8D7E-AD4D-48A9-9649-CF6D91D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78DF-8B0B-48EB-BF7C-C9A2F8B3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77DF-70B9-47FE-B844-62640725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880E-3101-4BB1-BE07-B47BBC42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DA24-D5CC-41C2-94B0-C250AC07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F087-B233-48C7-B4DD-C771079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1313-A0D0-4450-BFC7-142B163E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299D67B-401E-4F9A-B9C0-4E5F94A9EBBB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3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8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D2B56DB-01A0-4868-BE72-98441C81B168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6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Таблица 7"/>
          <p:cNvGraphicFramePr/>
          <p:nvPr/>
        </p:nvGraphicFramePr>
        <p:xfrm>
          <a:off x="263160" y="5013000"/>
          <a:ext cx="8772840" cy="1756440"/>
        </p:xfrm>
        <a:graphic>
          <a:graphicData uri="http://schemas.openxmlformats.org/drawingml/2006/table">
            <a:tbl>
              <a:tblPr>
                <a:effectLst>
                  <a:outerShdw dist="50760" dir="5400000" blurRad="50760" rotWithShape="0">
                    <a:srgbClr val="000000"/>
                  </a:outerShdw>
                </a:effectLst>
              </a:tblPr>
              <a:tblGrid>
                <a:gridCol w="2004120"/>
                <a:gridCol w="6768720"/>
              </a:tblGrid>
              <a:tr h="9777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Докладчик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Начальник финансового  управления администрации муниципального образования Веневский рай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монов Анатолий Митрофанови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Заголовок 1"/>
          <p:cNvSpPr/>
          <p:nvPr/>
        </p:nvSpPr>
        <p:spPr>
          <a:xfrm>
            <a:off x="395640" y="980640"/>
            <a:ext cx="8280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О результатах реализации майских Указов Президента Российской Федер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на 01.0</a:t>
            </a: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4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. 2016 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639720" y="188640"/>
            <a:ext cx="77482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252720" y="2203200"/>
            <a:ext cx="4822920" cy="3601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6" name="TextBox 5"/>
          <p:cNvSpPr/>
          <p:nvPr/>
        </p:nvSpPr>
        <p:spPr>
          <a:xfrm>
            <a:off x="5436000" y="1556640"/>
            <a:ext cx="331200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соответствии с законодательством Российской Федерации на 01.09.2015г. 16 молодых семей в Веневском районе признаны нуждающимися в улучшении жилищных условий . В 2016 году запланировано улучшение жилищных условий 7-ми сем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на 2016 год за счет средств районного бюджета : всего 215,2 тыс.руб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755640" y="23256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1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сновных направлениях совершенствования системы государственного управле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348000" y="742680"/>
            <a:ext cx="561312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 «Развитие информационного общества и формирование электронного правительства в Веневском районе» муниципальной программы «Повышение общественной безопасности населения и развитие местного самоуправлении в муниципальном образовании Веневский район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-1963,8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4.16г. – 73,7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4% от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казание услуг по разработке нового сайта для МУК «МЦБС», оказание услуг связи для МУК «ВКМ», МУК «МЦБС», МУК «МКДЦ»,информационное обслуживание СПС Консультант Плюс АМО Веневский рай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0" y="3662280"/>
            <a:ext cx="50778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2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Users\Катрина\Desktop\School-Computer-Lab.jpg"/>
          <p:cNvPicPr/>
          <p:nvPr/>
        </p:nvPicPr>
        <p:blipFill>
          <a:blip r:embed="rId1"/>
          <a:stretch/>
        </p:blipFill>
        <p:spPr>
          <a:xfrm>
            <a:off x="320040" y="1416240"/>
            <a:ext cx="2910600" cy="4491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1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7"/>
          <p:cNvSpPr/>
          <p:nvPr/>
        </p:nvSpPr>
        <p:spPr>
          <a:xfrm>
            <a:off x="520200" y="116640"/>
            <a:ext cx="85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 мерах по реализации демографической политики Российской Федераци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552200" y="1374120"/>
            <a:ext cx="446400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правление муниципальными финансами в муниципальном образовании Веневский район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 году выплата материнского капитала в разм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1077,5 руб. – на второго ребенка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6616,25 руб.- на третьего и последующи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 -1840,0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4.16г. 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315,7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17% от пла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320040" y="1556640"/>
            <a:ext cx="4232160" cy="36720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45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4680" y="2448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467640" y="11664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08 года № 7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беспечении жильем ветеранов Великой Отечественной войны 1941-1945 годов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780000" y="764640"/>
            <a:ext cx="43920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Развитие мер социальной поддержки отдельных категорий граждан» государственной программы «Социальная поддержка и социальное обслуживание населения Туль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редусмотрено обеспечение жильем нуждающихся в улучшении жилищных условий ветеранов ВОВ, членов семей погибших (умерших) инвалидов и участников ВОВ, имеющих право на соцподдержку согласно ФЗ «О ветеранах» и ФЗ «О социальной защите инвалидов в Российской Федер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-2949,7 тыс.руб. – средст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C:\Users\Катрина\Desktop\W2mVIlff3kY.jpg"/>
          <p:cNvPicPr/>
          <p:nvPr/>
        </p:nvPicPr>
        <p:blipFill>
          <a:blip r:embed="rId2"/>
          <a:stretch/>
        </p:blipFill>
        <p:spPr>
          <a:xfrm>
            <a:off x="251640" y="1484640"/>
            <a:ext cx="3105720" cy="416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1"/>
          <p:cNvSpPr/>
          <p:nvPr/>
        </p:nvSpPr>
        <p:spPr>
          <a:xfrm>
            <a:off x="447120" y="2637000"/>
            <a:ext cx="826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 cap="all">
                <a:solidFill>
                  <a:srgbClr val="ffffff"/>
                </a:solidFill>
                <a:latin typeface="Palatino Linotype"/>
              </a:rPr>
              <a:t>БЛАГОДАРЮ за внимание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6"/>
          <p:cNvGraphicFramePr/>
          <p:nvPr/>
        </p:nvGraphicFramePr>
        <p:xfrm>
          <a:off x="899640" y="548640"/>
          <a:ext cx="7704360" cy="6156360"/>
        </p:xfrm>
        <a:graphic>
          <a:graphicData uri="http://schemas.openxmlformats.org/drawingml/2006/table">
            <a:tbl>
              <a:tblPr/>
              <a:tblGrid>
                <a:gridCol w="551880"/>
                <a:gridCol w="7152480"/>
              </a:tblGrid>
              <a:tr h="66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Указы Президента Российской Федерации от 07.05.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7 «О мероприятиях по реализации государственной социальной поли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9 «О мерах по реализации государственной политики в области образования и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1009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0 «О мерах по обеспечению граждан Российской Федерации доступным и комфортным жильем и повышению качества жилищно-коммунальных услу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1 «Об основных направлениях совершенствования системы государственного управл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98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6 «О мерах по реализации демографической политики РФ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1312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14 от 7 мая 2008г. «Об обеспечении жильем ветеранов Великой Отечественной войны 1941-1945 год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1052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7640" y="12996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7" descr=""/>
          <p:cNvPicPr/>
          <p:nvPr/>
        </p:nvPicPr>
        <p:blipFill>
          <a:blip r:embed="rId1"/>
          <a:stretch/>
        </p:blipFill>
        <p:spPr>
          <a:xfrm>
            <a:off x="-24120" y="1075680"/>
            <a:ext cx="3659760" cy="41529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02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12960" y="105120"/>
            <a:ext cx="639360" cy="64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3"/>
          <p:cNvGraphicFramePr/>
          <p:nvPr/>
        </p:nvGraphicFramePr>
        <p:xfrm>
          <a:off x="3924000" y="1441080"/>
          <a:ext cx="4839120" cy="4829040"/>
        </p:xfrm>
        <a:graphic>
          <a:graphicData uri="http://schemas.openxmlformats.org/drawingml/2006/table">
            <a:tbl>
              <a:tblPr/>
              <a:tblGrid>
                <a:gridCol w="2678760"/>
                <a:gridCol w="2160000"/>
              </a:tblGrid>
              <a:tr h="36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016</a:t>
                      </a: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едняя з/пл. в Тульской области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з/пл. в сфере общего образован.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 з/пл. учителей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2224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роц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образовательных учреждений общего образования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дошкольных образовательных учреждений (от средней з/пл в сфере общего образова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учреждений дополнительного образования детей (от  средней з/пл. учителе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296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Работники учреждений культуры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7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771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67640" y="129960"/>
            <a:ext cx="867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Средняя заработная плата работников бюджетной сф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на 01.04. 2016 года,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Диаграмма 3"/>
          <p:cNvGraphicFramePr/>
          <p:nvPr/>
        </p:nvGraphicFramePr>
        <p:xfrm>
          <a:off x="665640" y="1989000"/>
          <a:ext cx="770436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06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67640" y="129960"/>
            <a:ext cx="835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олная потребность в средствах на реализацию Указа 5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на 2016 год – 3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0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млн. 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редусмотрено в бюджете муниципального образования Веневский район на 2016 год – 32,3 млн.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Объем недостающих средств – 1,7 млн.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051640" y="3933000"/>
            <a:ext cx="5112360" cy="237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418320" y="188640"/>
            <a:ext cx="826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3640" y="3899880"/>
            <a:ext cx="835524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4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Мероприятия реализуются  в рамках подпрограмм «Развитие дошкольного образования» (план – 137108,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,факт  на 01.04.16г.   -21748,4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) и «Развитие дополнительного образования детей» (план – 13446,2 тыс.руб., факт на 01.04.16г. – 3050,2тыс.руб.) муниципальной программы «Развитие образования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7640" y="159840"/>
            <a:ext cx="756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599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реализации государственной политики в области образования и нау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4463640" y="764640"/>
            <a:ext cx="46450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оступность дошк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бразования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ля детей в возрасте от 3 до 7 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г. –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Увеличение к 2020г. числа детей в возрасте от 5 до 18 лет, обучающихся по дополнительным образовательным программам  в общей численности детей этого возраста  до 70-75 % (50 % из них должны обучаться за счет средств федерального бюдж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Users\Катрина\Desktop\09ac72b9e68dd8bd651098a0c17b43f2.jpg"/>
          <p:cNvPicPr/>
          <p:nvPr/>
        </p:nvPicPr>
        <p:blipFill>
          <a:blip r:embed="rId1"/>
          <a:stretch/>
        </p:blipFill>
        <p:spPr>
          <a:xfrm>
            <a:off x="690480" y="980640"/>
            <a:ext cx="3096000" cy="2865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115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76320" y="676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140000" y="795960"/>
            <a:ext cx="48963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«Комплексное развитие муниципального образования Веневский район в сфере жилищно-коммунального комплекса 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32520" y="4968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14840" y="3406680"/>
            <a:ext cx="8849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«Устойчивое развитие сельских территорий  Веневского района Тульской области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Модернизация и капитальный ремонт объектов коммунальной инфраструктуры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C:\Users\Катрина\Desktop\1441697363_remontnye-raboty-gazoprovod.jpg"/>
          <p:cNvPicPr/>
          <p:nvPr/>
        </p:nvPicPr>
        <p:blipFill>
          <a:blip r:embed="rId1"/>
          <a:stretch/>
        </p:blipFill>
        <p:spPr>
          <a:xfrm>
            <a:off x="335880" y="1016280"/>
            <a:ext cx="3587760" cy="2383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0" name="Picture 4" descr="C:\Users\Катрина\Desktop\image.jpg"/>
          <p:cNvPicPr/>
          <p:nvPr/>
        </p:nvPicPr>
        <p:blipFill>
          <a:blip r:embed="rId2"/>
          <a:stretch/>
        </p:blipFill>
        <p:spPr>
          <a:xfrm>
            <a:off x="15840" y="622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639720" y="1989000"/>
            <a:ext cx="8000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6500,0 тыс.руб.,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4.16г. -  1085,5 тыс.руб.(17% от плана)-оплата за экспертизу проектной документации по объекту «Газификация д.Бяково»,оплата за оказание услуг по технадзору за качеством строительства объектов «Газификация с. Щучье» и «Газификация сл. Стрелецкая», оплата за реконструкцию водопроводных сетей пос. Оленьковский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467640" y="1124640"/>
            <a:ext cx="8136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стойчивое развитие сельских террито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Веневского района Тульской области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361160" y="4149000"/>
            <a:ext cx="634968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639720" y="2021760"/>
            <a:ext cx="800028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21758,8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4.2016г. – 654,6 тыс.руб.(6%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т плана)- -субвенции на водоснабжение  АМО Грицовское, АМО Центральное, АМО Мордвесское. Запланирована модернизация котлового оборудования котельной «Южная» Веневского района, мероприятия по техобслуживанию и ремонту газового оборудования и газопров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467640" y="1124640"/>
            <a:ext cx="8136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Модернизация и капитальный ремонт объектов коммунальной инфраструктуры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928800" y="3933000"/>
            <a:ext cx="728640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7999</TotalTime>
  <Application>LibreOffice/7.4.7.2$Linux_X86_64 LibreOffice_project/40$Build-2</Application>
  <AppVersion>15.0000</AppVersion>
  <Words>932</Words>
  <Paragraphs>1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0:18:48Z</dcterms:created>
  <dc:creator>Когтева Надежда Борисовна</dc:creator>
  <dc:description/>
  <dc:language>en-US</dc:language>
  <cp:lastModifiedBy>User</cp:lastModifiedBy>
  <cp:lastPrinted>2013-12-05T05:05:20Z</cp:lastPrinted>
  <dcterms:modified xsi:type="dcterms:W3CDTF">2016-04-05T05:54:54Z</dcterms:modified>
  <cp:revision>1027</cp:revision>
  <dc:subject/>
  <dc:title>о реализации отдельных указов Президента Российской Федерации и мониторингу достижения указанных в них целевых показ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