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План</c:v>
                </c:pt>
              </c:strCache>
            </c:strRef>
          </c:tx>
          <c:spPr>
            <a:solidFill>
              <a:srgbClr val="629dd1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629dd1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629dd1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629dd1"/>
              </a:solidFill>
              <a:ln w="0">
                <a:noFill/>
              </a:ln>
            </c:spPr>
          </c:dPt>
          <c:dPt>
            <c:idx val="3"/>
            <c:invertIfNegative val="0"/>
            <c:spPr>
              <a:solidFill>
                <a:srgbClr val="629dd1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layout>
                <c:manualLayout>
                  <c:x val="0"/>
                  <c:y val="0.228125"/>
                </c:manualLayout>
              </c:layout>
              <c:numFmt formatCode="General" sourceLinked="0"/>
              <c:txPr>
                <a:bodyPr rot="-5400000"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Palatino Linotype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layout>
                <c:manualLayout>
                  <c:x val="-0.00494493342899595"/>
                  <c:y val="0.228125"/>
                </c:manualLayout>
              </c:layout>
              <c:numFmt formatCode="General" sourceLinked="0"/>
              <c:txPr>
                <a:bodyPr rot="-5400000"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Palatino Linotype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layout>
                <c:manualLayout>
                  <c:x val="-0.00494493342899595"/>
                  <c:y val="0.225"/>
                </c:manualLayout>
              </c:layout>
              <c:numFmt formatCode="General" sourceLinked="0"/>
              <c:txPr>
                <a:bodyPr rot="-5400000"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Palatino Linotype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layout>
                <c:manualLayout>
                  <c:x val="0"/>
                  <c:y val="0.26875"/>
                </c:manualLayout>
              </c:layout>
              <c:numFmt formatCode="General" sourceLinked="0"/>
              <c:txPr>
                <a:bodyPr rot="-5400000"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Palatino Linotype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rot="-5400000"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Palatino Linotype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Общее образование</c:v>
                </c:pt>
                <c:pt idx="1">
                  <c:v>Дошкольное образование</c:v>
                </c:pt>
                <c:pt idx="2">
                  <c:v>Дополнительное образование</c:v>
                </c:pt>
                <c:pt idx="3">
                  <c:v>Работники культуры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26400</c:v>
                </c:pt>
                <c:pt idx="1">
                  <c:v>23840</c:v>
                </c:pt>
                <c:pt idx="2">
                  <c:v>22968</c:v>
                </c:pt>
                <c:pt idx="3">
                  <c:v>17714.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Факт</c:v>
                </c:pt>
              </c:strCache>
            </c:strRef>
          </c:tx>
          <c:spPr>
            <a:solidFill>
              <a:srgbClr val="297fd5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297fd5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297fd5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297fd5"/>
              </a:solidFill>
              <a:ln w="0">
                <a:noFill/>
              </a:ln>
            </c:spPr>
          </c:dPt>
          <c:dPt>
            <c:idx val="3"/>
            <c:invertIfNegative val="0"/>
            <c:spPr>
              <a:solidFill>
                <a:srgbClr val="297fd5"/>
              </a:solidFill>
              <a:ln w="0">
                <a:noFill/>
              </a:ln>
            </c:spPr>
          </c:dPt>
          <c:dLbls>
            <c:numFmt formatCode="0.00" sourceLinked="0"/>
            <c:dLbl>
              <c:idx val="0"/>
              <c:layout>
                <c:manualLayout>
                  <c:x val="-0.0032966222859973"/>
                  <c:y val="0.190625"/>
                </c:manualLayout>
              </c:layout>
              <c:numFmt formatCode="0.00" sourceLinked="0"/>
              <c:txPr>
                <a:bodyPr rot="-5400000"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Palatino Linotype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layout>
                <c:manualLayout>
                  <c:x val="-0.00164831114299865"/>
                  <c:y val="0.209375"/>
                </c:manualLayout>
              </c:layout>
              <c:numFmt formatCode="0.00" sourceLinked="0"/>
              <c:txPr>
                <a:bodyPr rot="-5400000"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Palatino Linotype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layout>
                <c:manualLayout>
                  <c:x val="0.00164831114299865"/>
                  <c:y val="0.228125"/>
                </c:manualLayout>
              </c:layout>
              <c:numFmt formatCode="0.00" sourceLinked="0"/>
              <c:txPr>
                <a:bodyPr rot="-5400000"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Palatino Linotype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layout>
                <c:manualLayout>
                  <c:x val="0.00164831114299865"/>
                  <c:y val="0.25"/>
                </c:manualLayout>
              </c:layout>
              <c:numFmt formatCode="0.00" sourceLinked="0"/>
              <c:txPr>
                <a:bodyPr rot="-5400000"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Palatino Linotype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rot="-5400000"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Palatino Linotype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Общее образование</c:v>
                </c:pt>
                <c:pt idx="1">
                  <c:v>Дошкольное образование</c:v>
                </c:pt>
                <c:pt idx="2">
                  <c:v>Дополнительное образование</c:v>
                </c:pt>
                <c:pt idx="3">
                  <c:v>Работники культуры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5820.61</c:v>
                </c:pt>
                <c:pt idx="1">
                  <c:v>23992.97</c:v>
                </c:pt>
                <c:pt idx="2">
                  <c:v>20677.2</c:v>
                </c:pt>
                <c:pt idx="3">
                  <c:v>16558.13</c:v>
                </c:pt>
              </c:numCache>
            </c:numRef>
          </c:val>
        </c:ser>
        <c:gapWidth val="150"/>
        <c:overlap val="0"/>
        <c:axId val="57132671"/>
        <c:axId val="36878185"/>
      </c:barChart>
      <c:catAx>
        <c:axId val="57132671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12600">
            <a:solidFill>
              <a:srgbClr val="ffffff"/>
            </a:solidFill>
            <a:round/>
          </a:ln>
        </c:spPr>
        <c:txPr>
          <a:bodyPr rot="-5400000"/>
          <a:lstStyle/>
          <a:p>
            <a:pPr>
              <a:defRPr b="0" sz="1700" spc="-1" strike="noStrike">
                <a:solidFill>
                  <a:srgbClr val="ffffff"/>
                </a:solidFill>
                <a:latin typeface="Palatino Linotype"/>
              </a:defRPr>
            </a:pPr>
          </a:p>
        </c:txPr>
        <c:crossAx val="36878185"/>
        <c:crosses val="autoZero"/>
        <c:auto val="1"/>
        <c:lblAlgn val="ctr"/>
        <c:lblOffset val="100"/>
        <c:noMultiLvlLbl val="0"/>
      </c:catAx>
      <c:valAx>
        <c:axId val="36878185"/>
        <c:scaling>
          <c:orientation val="minMax"/>
        </c:scaling>
        <c:delete val="0"/>
        <c:axPos val="l"/>
        <c:majorGridlines>
          <c:spPr>
            <a:ln w="12600">
              <a:solidFill>
                <a:srgbClr val="fffff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12600">
            <a:solidFill>
              <a:srgbClr val="fffff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ffffff"/>
                </a:solidFill>
                <a:latin typeface="Palatino Linotype"/>
              </a:defRPr>
            </a:pPr>
          </a:p>
        </c:txPr>
        <c:crossAx val="57132671"/>
        <c:crosses val="autoZero"/>
        <c:crossBetween val="between"/>
      </c:valAx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ffffff"/>
              </a:solidFill>
              <a:latin typeface="Palatino Linotyp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5FE86F-9DDA-4A8C-A4D4-00221C28F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2D08F7-5197-4145-B0E5-F2EA550255F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B99A87-E2B3-434D-B245-1A008C99DBB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99369A-4D21-4F0D-A4DA-42B2B4E610C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2A004-F16D-4C6C-A9A8-855AB9B0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EE212-18CA-4A49-A3F4-193DD30F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C0CE3-2EEB-41F0-9486-944B312C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0C31C-8B33-405A-B466-D6169FE7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D1B16-516B-4FF9-9FE2-10D54D2D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45CFA-3C5E-473F-B36E-96707C37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8F6F9-7FD9-4275-8EA6-F1B92EED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7D3A3-763D-425A-8A01-443D4E64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1F669-D97E-4992-88DB-9BC447BD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B7291-1156-4FAB-8BD9-856E5F9C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A86EE-FD6D-4C02-99A2-3C69F9B7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CF77D-62FA-4F88-B988-8D401FC2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375B5-D2AF-46BE-9672-187539F1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417B6-4839-4256-B75B-A0350B11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E4D6E-7F4D-494E-A68A-51ECD7CD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64F5A-A59E-4578-BC00-E5E9D5BE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A4C89-B5ED-49BC-BF0C-171F67EE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7BFE1-D5F6-4E3B-BBBF-62B8BDC0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C30D7-9DE0-4FE8-A542-6D799D71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FBA6C-08DD-4044-832C-CF4FB023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7A48D-8B1E-4132-A50C-886D47FE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F463C-17A9-4A46-A8D4-472E73D2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80E14-EE47-4238-B5A6-BDD506E2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B9E68-377B-48BC-9874-41D61F81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" name="Oval 7"/>
          <p:cNvSpPr/>
          <p:nvPr/>
        </p:nvSpPr>
        <p:spPr>
          <a:xfrm rot="19724400">
            <a:off x="1373040" y="1038600"/>
            <a:ext cx="7240320" cy="5706720"/>
          </a:xfrm>
          <a:prstGeom prst="ellipse">
            <a:avLst/>
          </a:prstGeom>
          <a:gradFill rotWithShape="0">
            <a:gsLst>
              <a:gs pos="0">
                <a:srgbClr val="c4bcc6">
                  <a:alpha val="7058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2" name="Oval 8"/>
          <p:cNvSpPr/>
          <p:nvPr/>
        </p:nvSpPr>
        <p:spPr>
          <a:xfrm rot="17656800">
            <a:off x="-273960" y="1165680"/>
            <a:ext cx="5538240" cy="448020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3" name="Oval 9"/>
          <p:cNvSpPr/>
          <p:nvPr/>
        </p:nvSpPr>
        <p:spPr>
          <a:xfrm rot="19724400">
            <a:off x="3277800" y="117000"/>
            <a:ext cx="6478920" cy="475452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Образец заголовка</a:t>
            </a: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172200" y="61545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60" y="584208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E227A7F-2140-4373-A631-5CB68D7BF669}" type="slidenum">
              <a: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3"/>
          </p:nvPr>
        </p:nvSpPr>
        <p:spPr>
          <a:xfrm>
            <a:off x="822960" y="6154560"/>
            <a:ext cx="45716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7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ru-RU" sz="17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5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ru-RU" sz="1500" spc="-1" strike="noStrike">
              <a:solidFill>
                <a:srgbClr val="ffffff"/>
              </a:solidFill>
              <a:latin typeface="Palatino Linotype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 rot="19724400">
            <a:off x="1373040" y="1038600"/>
            <a:ext cx="7240320" cy="5706720"/>
          </a:xfrm>
          <a:prstGeom prst="ellipse">
            <a:avLst/>
          </a:prstGeom>
          <a:gradFill rotWithShape="0">
            <a:gsLst>
              <a:gs pos="0">
                <a:srgbClr val="c4bcc6">
                  <a:alpha val="7058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 rot="17656800">
            <a:off x="-273960" y="1165680"/>
            <a:ext cx="5538240" cy="448020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8" name="Oval 9"/>
          <p:cNvSpPr/>
          <p:nvPr/>
        </p:nvSpPr>
        <p:spPr>
          <a:xfrm rot="19724400">
            <a:off x="3277800" y="117000"/>
            <a:ext cx="6478920" cy="475452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172200" y="61545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Num" idx="5"/>
          </p:nvPr>
        </p:nvSpPr>
        <p:spPr>
          <a:xfrm>
            <a:off x="822960" y="584208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E0B5306-8828-4B01-8B33-AE323C2F4D7E}" type="slidenum">
              <a: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6"/>
          </p:nvPr>
        </p:nvSpPr>
        <p:spPr>
          <a:xfrm>
            <a:off x="822960" y="6154560"/>
            <a:ext cx="45716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7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ru-RU" sz="17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5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ru-RU" sz="1500" spc="-1" strike="noStrike">
              <a:solidFill>
                <a:srgbClr val="ffffff"/>
              </a:solidFill>
              <a:latin typeface="Palatino Linotype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Таблица 7"/>
          <p:cNvGraphicFramePr/>
          <p:nvPr/>
        </p:nvGraphicFramePr>
        <p:xfrm>
          <a:off x="263160" y="5013000"/>
          <a:ext cx="8772840" cy="1756440"/>
        </p:xfrm>
        <a:graphic>
          <a:graphicData uri="http://schemas.openxmlformats.org/drawingml/2006/table">
            <a:tbl>
              <a:tblPr>
                <a:effectLst>
                  <a:outerShdw dist="50760" dir="5400000" blurRad="50760" rotWithShape="0">
                    <a:srgbClr val="000000"/>
                  </a:outerShdw>
                </a:effectLst>
              </a:tblPr>
              <a:tblGrid>
                <a:gridCol w="2004120"/>
                <a:gridCol w="6768720"/>
              </a:tblGrid>
              <a:tr h="97776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Докладчик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Начальник финансового  управления администрации муниципального образования Веневский район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Мамонов Анатолий Митрофанови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Заголовок 1"/>
          <p:cNvSpPr/>
          <p:nvPr/>
        </p:nvSpPr>
        <p:spPr>
          <a:xfrm>
            <a:off x="395640" y="980640"/>
            <a:ext cx="8280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О результатах реализации майских Указов Президента Российской Федерац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за январь 2016 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81720"/>
            <a:ext cx="639360" cy="64584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639720" y="188640"/>
            <a:ext cx="7748280" cy="14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Palatino Linotype"/>
              </a:rPr>
              <a:t>Подпрограмма «Обеспечение жильем молодых семей на территории Веневского района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252720" y="2203200"/>
            <a:ext cx="4822920" cy="3601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36" name="TextBox 5"/>
          <p:cNvSpPr/>
          <p:nvPr/>
        </p:nvSpPr>
        <p:spPr>
          <a:xfrm>
            <a:off x="5436000" y="1556640"/>
            <a:ext cx="33120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В соответствии с законодательством Российской Федерации на 01.09.2015г. 16 молодых семей в Веневском районе признаны нуждающимися в улучшении жилищных условий . В 2016 году запланировано улучшение жилищных условий 7-ми сем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             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на 2016 год : всего 215,2 тыс.руб.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755640" y="232560"/>
            <a:ext cx="806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1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б основных направлениях совершенствования системы государственного управления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3348000" y="742680"/>
            <a:ext cx="5613120" cy="52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Palatino Linotype"/>
              </a:rPr>
              <a:t>Подпрограмма  «Развитие информационного общества и формирование электронного правительства в Веневском районе» муниципальной программы «Повышение общественной безопасности населения и развитие местного самоуправлении в муниципальном образовании Веневский район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1943,8 тыс.руб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Исполнено за январь 2016г. – 30,6 тыс.р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(2% от план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Оказание услуг по разработке нового сайта для МУК «МЦБС», оказание услуг связи для МУК «ВКМ», МУК «МЦБС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0" y="3662280"/>
            <a:ext cx="50778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22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C:\Users\Катрина\Desktop\School-Computer-Lab.jpg"/>
          <p:cNvPicPr/>
          <p:nvPr/>
        </p:nvPicPr>
        <p:blipFill>
          <a:blip r:embed="rId1"/>
          <a:stretch/>
        </p:blipFill>
        <p:spPr>
          <a:xfrm>
            <a:off x="320040" y="1416240"/>
            <a:ext cx="2910600" cy="44917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41" name="Picture 3" descr="C:\Users\Катрина\Desktop\image.jpg"/>
          <p:cNvPicPr/>
          <p:nvPr/>
        </p:nvPicPr>
        <p:blipFill>
          <a:blip r:embed="rId2"/>
          <a:stretch/>
        </p:blipFill>
        <p:spPr>
          <a:xfrm>
            <a:off x="0" y="9648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7"/>
          <p:cNvSpPr/>
          <p:nvPr/>
        </p:nvSpPr>
        <p:spPr>
          <a:xfrm>
            <a:off x="520200" y="116640"/>
            <a:ext cx="8515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6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О мерах по реализации демографической политики Российской Федераци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4552200" y="1374120"/>
            <a:ext cx="44640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Муниципальная программ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«Управление муниципальными финансами в муниципальном образовании Веневский район 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В 2016 году выплата материнского капитала в разме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1077,5 руб. – на второго ребенка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6616,25 руб.- на третьего и последующих де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-1840,0тыс.р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Исполнено за январь 2016г. 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21,9 тыс.руб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(7% от план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Рисунок 1" descr=""/>
          <p:cNvPicPr/>
          <p:nvPr/>
        </p:nvPicPr>
        <p:blipFill>
          <a:blip r:embed="rId1"/>
          <a:stretch/>
        </p:blipFill>
        <p:spPr>
          <a:xfrm>
            <a:off x="320040" y="1556640"/>
            <a:ext cx="4232160" cy="367200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  <p:pic>
        <p:nvPicPr>
          <p:cNvPr id="145" name="Picture 3" descr="C:\Users\Катрина\Desktop\image.jpg"/>
          <p:cNvPicPr/>
          <p:nvPr/>
        </p:nvPicPr>
        <p:blipFill>
          <a:blip r:embed="rId2"/>
          <a:stretch/>
        </p:blipFill>
        <p:spPr>
          <a:xfrm>
            <a:off x="0" y="9648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4680" y="24480"/>
            <a:ext cx="639360" cy="64584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4"/>
          <p:cNvSpPr/>
          <p:nvPr/>
        </p:nvSpPr>
        <p:spPr>
          <a:xfrm>
            <a:off x="467640" y="116640"/>
            <a:ext cx="84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08 года № 714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б обеспечении жильем ветеранов Великой Отечественной войны 1941-1945 годов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3780000" y="764640"/>
            <a:ext cx="43920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Palatino Linotype"/>
              </a:rPr>
              <a:t>Подпрограмма «Развитие мер социальной поддержки отдельных категорий граждан» государственной программы «Социальная поддержка и социальное обслуживание населения Туль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редусмотрено обеспечение жильем нуждающихся в улучшении жилищных условий ветеранов ВОВ, членов семей погибших (умерших) инвалидов и участников ВОВ, имеющих право на соцподдержку согласно ФЗ «О ветеранах» и ФЗ «О социальной защите инвалидов в Российской Федераци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-2949,7 тыс.руб. – средства федерального бюдж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" descr="C:\Users\Катрина\Desktop\W2mVIlff3kY.jpg"/>
          <p:cNvPicPr/>
          <p:nvPr/>
        </p:nvPicPr>
        <p:blipFill>
          <a:blip r:embed="rId2"/>
          <a:stretch/>
        </p:blipFill>
        <p:spPr>
          <a:xfrm>
            <a:off x="251640" y="1484640"/>
            <a:ext cx="3105720" cy="41684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Заголовок 1"/>
          <p:cNvSpPr/>
          <p:nvPr/>
        </p:nvSpPr>
        <p:spPr>
          <a:xfrm>
            <a:off x="447120" y="2637000"/>
            <a:ext cx="82602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</a:pPr>
            <a:r>
              <a:rPr b="1" lang="ru-RU" sz="3500" spc="-1" strike="noStrike" cap="all">
                <a:solidFill>
                  <a:srgbClr val="ffffff"/>
                </a:solidFill>
                <a:latin typeface="Palatino Linotype"/>
              </a:rPr>
              <a:t>БЛАГОДАРЮ за внимание!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Объект 6"/>
          <p:cNvGraphicFramePr/>
          <p:nvPr/>
        </p:nvGraphicFramePr>
        <p:xfrm>
          <a:off x="899640" y="548640"/>
          <a:ext cx="7704360" cy="6156360"/>
        </p:xfrm>
        <a:graphic>
          <a:graphicData uri="http://schemas.openxmlformats.org/drawingml/2006/table">
            <a:tbl>
              <a:tblPr/>
              <a:tblGrid>
                <a:gridCol w="551880"/>
                <a:gridCol w="7152480"/>
              </a:tblGrid>
              <a:tr h="669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Указы Президента Российской Федерации от 07.05.2012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</a:tr>
              <a:tr h="70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597 «О мероприятиях по реализации государственной социальной полити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70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599 «О мерах по реализации государственной политики в области образования и нау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1009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600 «О мерах по обеспечению граждан Российской Федерации доступным и комфортным жильем и повышению качества жилищно-коммунальных услуг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70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601 «Об основных направлениях совершенствования системы государственного управлен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984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606 «О мерах по реализации демографической политики РФ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1312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714 от 7 мая 2008г. «Об обеспечении жильем ветеранов Великой Отечественной войны 1941-1945 годов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</a:tbl>
          </a:graphicData>
        </a:graphic>
      </p:graphicFrame>
      <p:pic>
        <p:nvPicPr>
          <p:cNvPr id="99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11052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467640" y="129960"/>
            <a:ext cx="84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59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оприятиях по реализации государственной социальной политик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Рисунок 7" descr=""/>
          <p:cNvPicPr/>
          <p:nvPr/>
        </p:nvPicPr>
        <p:blipFill>
          <a:blip r:embed="rId1"/>
          <a:stretch/>
        </p:blipFill>
        <p:spPr>
          <a:xfrm>
            <a:off x="-24120" y="1075680"/>
            <a:ext cx="3659760" cy="415296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  <p:pic>
        <p:nvPicPr>
          <p:cNvPr id="102" name="Picture 2" descr="C:\Users\Катрина\Desktop\image.jpg"/>
          <p:cNvPicPr/>
          <p:nvPr/>
        </p:nvPicPr>
        <p:blipFill>
          <a:blip r:embed="rId2"/>
          <a:stretch/>
        </p:blipFill>
        <p:spPr>
          <a:xfrm>
            <a:off x="12960" y="105120"/>
            <a:ext cx="639360" cy="64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Таблица 3"/>
          <p:cNvGraphicFramePr/>
          <p:nvPr/>
        </p:nvGraphicFramePr>
        <p:xfrm>
          <a:off x="3924000" y="1441080"/>
          <a:ext cx="4839120" cy="4696920"/>
        </p:xfrm>
        <a:graphic>
          <a:graphicData uri="http://schemas.openxmlformats.org/drawingml/2006/table">
            <a:tbl>
              <a:tblPr/>
              <a:tblGrid>
                <a:gridCol w="2678760"/>
                <a:gridCol w="2160000"/>
              </a:tblGrid>
              <a:tr h="367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016</a:t>
                      </a: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420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Средняя з/пл. в Тульской области,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6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458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Ср.з/пл. в сфере общего образован. по субъекту РФ,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384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420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Ср. з/пл. учителей по субъекту РФ,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6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222480"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роц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2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ед.работники образ.учреждений общего образован. (от средней з/пл. в Тульской области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6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6372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ед.работники дошкольных образоват.учреждений (от средней з/пл в сфере общего образ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384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6372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ед.работники учрежден. дополнит. образ. детей (от  средней з/пл. учителей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8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2968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458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Работники учреждений культуры (от средней з/пл. в Тульской области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67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17714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467640" y="129960"/>
            <a:ext cx="867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59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оприятиях по реализации государственной социальной политик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Средняя заработная плата работников бюджетной сфер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за январь 2016 года, р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Диаграмма 3"/>
          <p:cNvGraphicFramePr/>
          <p:nvPr/>
        </p:nvGraphicFramePr>
        <p:xfrm>
          <a:off x="665640" y="1989000"/>
          <a:ext cx="7704360" cy="406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pic>
        <p:nvPicPr>
          <p:cNvPr id="106" name="Picture 2" descr="C:\Users\Катрина\Desktop\image.jpg"/>
          <p:cNvPicPr/>
          <p:nvPr/>
        </p:nvPicPr>
        <p:blipFill>
          <a:blip r:embed="rId2"/>
          <a:stretch/>
        </p:blipFill>
        <p:spPr>
          <a:xfrm>
            <a:off x="25560" y="6120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467640" y="129960"/>
            <a:ext cx="8352720" cy="35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59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оприятиях по реализации государственной социальной политик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Полная потребность в средствах на реализацию Указа 5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на 2016 год – 3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4</a:t>
            </a: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0 </a:t>
            </a: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млн. руб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предусмотрено в бюджете муниципального образования Веневский район на 2016 год – 32,3 млн. руб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Объем недостающих средств – 1,7 млн. р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25560" y="61200"/>
            <a:ext cx="639360" cy="645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2051640" y="3933000"/>
            <a:ext cx="5112360" cy="2376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Заголовок 1"/>
          <p:cNvSpPr/>
          <p:nvPr/>
        </p:nvSpPr>
        <p:spPr>
          <a:xfrm>
            <a:off x="418320" y="188640"/>
            <a:ext cx="82602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 cap="all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323640" y="3899880"/>
            <a:ext cx="835524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4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Мероприятия реализуются  в рамках подпрограмм «Развитие дошкольного образования» (план – 136416,9тыс.руб.,факт за январь 2016г. -2376,7тыс.руб.) и «Развитие дополнительного образования детей» (план – 13434,5 тыс.руб., факт за январь 2016г. – 393,0тыс.руб.) муниципальной программы «Развитие образования Веневского района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7640" y="159840"/>
            <a:ext cx="756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599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реализации государственной политики в области образования и наук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4463640" y="764640"/>
            <a:ext cx="464508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Доступность дошк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образования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для детей в возрасте от 3 до 7 л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в 2016г. – 10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Увеличение к 2020г. числа детей в возрасте от 5 до 18 лет, обучающихся по дополнительным образовательным программам  в общей численности детей этого возраста  до 70-75 % (50 % из них должны обучаться за счет средств федерального бюджет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C:\Users\Катрина\Desktop\09ac72b9e68dd8bd651098a0c17b43f2.jpg"/>
          <p:cNvPicPr/>
          <p:nvPr/>
        </p:nvPicPr>
        <p:blipFill>
          <a:blip r:embed="rId1"/>
          <a:stretch/>
        </p:blipFill>
        <p:spPr>
          <a:xfrm>
            <a:off x="690480" y="980640"/>
            <a:ext cx="3096000" cy="286560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pic>
        <p:nvPicPr>
          <p:cNvPr id="115" name="Picture 3" descr="C:\Users\Катрина\Desktop\image.jpg"/>
          <p:cNvPicPr/>
          <p:nvPr/>
        </p:nvPicPr>
        <p:blipFill>
          <a:blip r:embed="rId2"/>
          <a:stretch/>
        </p:blipFill>
        <p:spPr>
          <a:xfrm>
            <a:off x="76320" y="6768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4140000" y="795960"/>
            <a:ext cx="489636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Муниципальная программа «Комплексное развитие муниципального образования Веневский район в сфере жилищно-коммунального комплекса »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632520" y="49680"/>
            <a:ext cx="82807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114840" y="3406680"/>
            <a:ext cx="88491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- подпрограмма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«Устойчивое развитие сельских территорий  Веневского района Тульской области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- подпрограмма «Модернизация и капитальный ремонт объектов коммунальной инфраструктуры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- подпрограмма «Обеспечение жильем молодых семей на территории Веневского района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3" descr="C:\Users\Катрина\Desktop\1441697363_remontnye-raboty-gazoprovod.jpg"/>
          <p:cNvPicPr/>
          <p:nvPr/>
        </p:nvPicPr>
        <p:blipFill>
          <a:blip r:embed="rId1"/>
          <a:stretch/>
        </p:blipFill>
        <p:spPr>
          <a:xfrm>
            <a:off x="335880" y="1016280"/>
            <a:ext cx="3587760" cy="23839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20" name="Picture 4" descr="C:\Users\Катрина\Desktop\image.jpg"/>
          <p:cNvPicPr/>
          <p:nvPr/>
        </p:nvPicPr>
        <p:blipFill>
          <a:blip r:embed="rId2"/>
          <a:stretch/>
        </p:blipFill>
        <p:spPr>
          <a:xfrm>
            <a:off x="15840" y="6228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467640" y="150120"/>
            <a:ext cx="82807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639720" y="1170000"/>
            <a:ext cx="810828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639720" y="1989000"/>
            <a:ext cx="80002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: всего 6500,0 тыс.руб.,в том числ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Исполнено за январь 2016г. -  204,1 тыс.руб.(3% от плана)-оплата за экспертизу проектной документации по объекту «Газификация д.Бяково»</a:t>
            </a: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 .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В 2016 году запланировано  строительство газопровода в с.Прудищи, разработка ПСД для реконструкции водопроводных сетей в п.Мордвес и п.Грицовский, разработка ПСД для строительства газопровода в с.Дьяконово и с. Венев-Монастыр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138240"/>
            <a:ext cx="639360" cy="6458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3"/>
          <p:cNvSpPr/>
          <p:nvPr/>
        </p:nvSpPr>
        <p:spPr>
          <a:xfrm>
            <a:off x="467640" y="1124640"/>
            <a:ext cx="813672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Подпрограмма </a:t>
            </a: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«Устойчивое развитие сельских территор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Веневского района Тульской области 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1361160" y="4149000"/>
            <a:ext cx="6349680" cy="2448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467640" y="150120"/>
            <a:ext cx="82807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639720" y="1170000"/>
            <a:ext cx="810828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Прямоугольник 4"/>
          <p:cNvSpPr/>
          <p:nvPr/>
        </p:nvSpPr>
        <p:spPr>
          <a:xfrm>
            <a:off x="639720" y="1989000"/>
            <a:ext cx="80002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: всего 11758,8 тыс.р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Запланирована модернизация котлового оборудования котельной «Южная» Веневского района, мероприятия  по техобслуживанию и ремонту  газового оборудования и газопроводов,  по организации водоснабжения в поселениях райо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138240"/>
            <a:ext cx="639360" cy="64584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3"/>
          <p:cNvSpPr/>
          <p:nvPr/>
        </p:nvSpPr>
        <p:spPr>
          <a:xfrm>
            <a:off x="467640" y="1124640"/>
            <a:ext cx="8136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Подпрограмма </a:t>
            </a: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«Модернизация и капитальный ремонт объектов коммунальной инфраструктуры 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928800" y="3357000"/>
            <a:ext cx="7286400" cy="3024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theme/theme1.xml><?xml version="1.0" encoding="utf-8"?>
<a:theme xmlns:a="http://schemas.openxmlformats.org/drawingml/2006/main" name="Базовая">
  <a:themeElements>
    <a:clrScheme name="Базовая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азовая">
  <a:themeElements>
    <a:clrScheme name="Базовая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pstream</Template>
  <TotalTime>7893</TotalTime>
  <Application>LibreOffice/7.4.7.2$Linux_X86_64 LibreOffice_project/40$Build-2</Application>
  <AppVersion>15.0000</AppVersion>
  <Words>888</Words>
  <Paragraphs>1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10:18:48Z</dcterms:created>
  <dc:creator>Когтева Надежда Борисовна</dc:creator>
  <dc:description/>
  <dc:language>en-US</dc:language>
  <cp:lastModifiedBy>User</cp:lastModifiedBy>
  <cp:lastPrinted>2013-12-05T05:05:20Z</cp:lastPrinted>
  <dcterms:modified xsi:type="dcterms:W3CDTF">2016-02-25T11:28:30Z</dcterms:modified>
  <cp:revision>1012</cp:revision>
  <dc:subject/>
  <dc:title>о реализации отдельных указов Президента Российской Федерации и мониторингу достижения указанных в них целевых показател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14</vt:r8>
  </property>
</Properties>
</file>