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лан</c:v>
                </c:pt>
              </c:strCache>
            </c:strRef>
          </c:tx>
          <c:spPr>
            <a:solidFill>
              <a:srgbClr val="629dd1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"/>
                  <c:y val="0.2281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-0.00494493342899595"/>
                  <c:y val="0.2281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-0.00494493342899595"/>
                  <c:y val="0.2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"/>
                  <c:y val="0.2687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6400</c:v>
                </c:pt>
                <c:pt idx="1">
                  <c:v>23840</c:v>
                </c:pt>
                <c:pt idx="2">
                  <c:v>22968</c:v>
                </c:pt>
                <c:pt idx="3">
                  <c:v>17714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Факт</c:v>
                </c:pt>
              </c:strCache>
            </c:strRef>
          </c:tx>
          <c:spPr>
            <a:solidFill>
              <a:srgbClr val="297fd5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Lbls>
            <c:numFmt formatCode="0.00" sourceLinked="0"/>
            <c:dLbl>
              <c:idx val="0"/>
              <c:layout>
                <c:manualLayout>
                  <c:x val="-0.0032966222859973"/>
                  <c:y val="0.1906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-0.00164831114299865"/>
                  <c:y val="0.20937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0164831114299865"/>
                  <c:y val="0.2281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.00164831114299865"/>
                  <c:y val="0.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6681.72</c:v>
                </c:pt>
                <c:pt idx="1">
                  <c:v>24782.62</c:v>
                </c:pt>
                <c:pt idx="2">
                  <c:v>20805</c:v>
                </c:pt>
                <c:pt idx="3">
                  <c:v>16117.94</c:v>
                </c:pt>
              </c:numCache>
            </c:numRef>
          </c:val>
        </c:ser>
        <c:gapWidth val="150"/>
        <c:overlap val="0"/>
        <c:axId val="70876529"/>
        <c:axId val="12710550"/>
      </c:barChart>
      <c:catAx>
        <c:axId val="70876529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 rot="-5400000"/>
          <a:lstStyle/>
          <a:p>
            <a:pPr>
              <a:defRPr b="0" sz="17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12710550"/>
        <c:crosses val="autoZero"/>
        <c:auto val="1"/>
        <c:lblAlgn val="ctr"/>
        <c:lblOffset val="100"/>
        <c:noMultiLvlLbl val="0"/>
      </c:catAx>
      <c:valAx>
        <c:axId val="12710550"/>
        <c:scaling>
          <c:orientation val="minMax"/>
        </c:scaling>
        <c:delete val="0"/>
        <c:axPos val="l"/>
        <c:majorGridlines>
          <c:spPr>
            <a:ln w="1260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70876529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Palatino Linotyp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7C06FF-D1D2-4651-B87A-C267B3DD2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D682F3-D915-4140-84F5-C3912A7349E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BD597C-6C9D-47E7-A81D-5E1BC55C8EE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80836C-D782-4255-9B5E-039D809EB78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ABFF-B140-4368-8F58-184060F2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129A-4342-4AD9-AFB1-EB8C8854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CB24-80A8-438E-BC9C-F759543A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9A3C-0E17-48AF-B6C3-77618A49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BF728-224E-4137-AC84-76A062A2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5E870-C6AC-4E78-AD15-67359AF5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A3125-7C23-45FD-81EE-22CA7811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9B663-C6D4-43A1-8F9E-F501B62B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806A6-3A48-41BF-9D7A-91D9DBE0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9CE9C-0E1A-47E8-B8F2-894B603A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E4F14-DDB0-40C5-9DA9-D89959E9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12C7-C6A1-4BAA-9D15-F02A14D7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5C62B-E2E3-49EA-A31D-1A97314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1BD58-1146-4F4D-ACCE-A016455F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EE0D1-D8BB-40F5-93AB-D1A66A3B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1A29F-667E-4E6D-898E-E1313B6A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E1C2F-E199-4A00-9C01-21E11C77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D28A-B2A3-41CD-819D-6D93E26D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B53E-5AD3-4202-AC8C-CAAA6125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66F0-1486-4FAE-A974-C05E09B4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9640-9277-4722-B66B-426CD8DA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8B45-BDAE-4EDE-A33E-6866C7E4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3EA0-C83F-43BD-A053-7E1805CD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CF4C-D943-4163-B994-02DAA3F3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38EDB36-00F2-4D74-B8A2-862E81CC187A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3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8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24F9AC4-1DB0-4EBD-97D5-97C0B8C12868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6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Таблица 7"/>
          <p:cNvGraphicFramePr/>
          <p:nvPr/>
        </p:nvGraphicFramePr>
        <p:xfrm>
          <a:off x="263160" y="5013000"/>
          <a:ext cx="8772840" cy="1756440"/>
        </p:xfrm>
        <a:graphic>
          <a:graphicData uri="http://schemas.openxmlformats.org/drawingml/2006/table">
            <a:tbl>
              <a:tblPr>
                <a:effectLst>
                  <a:outerShdw dist="50760" dir="5400000" blurRad="50760" rotWithShape="0">
                    <a:srgbClr val="000000"/>
                  </a:outerShdw>
                </a:effectLst>
              </a:tblPr>
              <a:tblGrid>
                <a:gridCol w="2004120"/>
                <a:gridCol w="6768720"/>
              </a:tblGrid>
              <a:tr h="9777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Докладчик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Начальник финансового  управления администрации муниципального образования Веневский райо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монов Анатолий Митрофанови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Заголовок 1"/>
          <p:cNvSpPr/>
          <p:nvPr/>
        </p:nvSpPr>
        <p:spPr>
          <a:xfrm>
            <a:off x="395640" y="980640"/>
            <a:ext cx="8280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О результатах реализации майских Указов Президента Российской Федер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на 01.0</a:t>
            </a: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. 2016 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8172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639720" y="188640"/>
            <a:ext cx="77482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252720" y="2203200"/>
            <a:ext cx="4822920" cy="3601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6" name="TextBox 5"/>
          <p:cNvSpPr/>
          <p:nvPr/>
        </p:nvSpPr>
        <p:spPr>
          <a:xfrm>
            <a:off x="5436000" y="1556640"/>
            <a:ext cx="331200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соответствии с законодательством Российской Федерации на 01.09.2015г. 16 молодых семей в Веневском районе признаны нуждающимися в улучшении жилищных условий . В 2016 году запланировано улучшение жилищных условий 7-ми сем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на 2016 год за счет средств районного бюджета : всего 215,2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755640" y="23256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1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сновных направлениях совершенствования системы государственного управлени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348000" y="742680"/>
            <a:ext cx="561312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 «Развитие информационного общества и формирование электронного правительства в Веневском районе» муниципальной программы «Повышение общественной безопасности населения и развитие местного самоуправлении в муниципальном образовании Веневский район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-1963,8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5.16г. – 94,2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5% от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казание услуг по разработке нового сайта для МУК «МЦБС», оказание услуг связи для МУК «ВКМ», МУК «МЦБС», МУК «МКДЦ»,информационное обслуживание СПС Консультант Плюс АМО Веневский рай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0" y="3662280"/>
            <a:ext cx="50778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22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C:\Users\Катрина\Desktop\School-Computer-Lab.jpg"/>
          <p:cNvPicPr/>
          <p:nvPr/>
        </p:nvPicPr>
        <p:blipFill>
          <a:blip r:embed="rId1"/>
          <a:stretch/>
        </p:blipFill>
        <p:spPr>
          <a:xfrm>
            <a:off x="320040" y="1416240"/>
            <a:ext cx="2910600" cy="4491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1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7"/>
          <p:cNvSpPr/>
          <p:nvPr/>
        </p:nvSpPr>
        <p:spPr>
          <a:xfrm>
            <a:off x="520200" y="116640"/>
            <a:ext cx="851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 мерах по реализации демографической политики Российской Федераци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552200" y="1374120"/>
            <a:ext cx="446400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правление муниципальными финансами в муниципальном образовании Веневский район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 году выплата материнского капитала в разм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1077,5 руб. – на второго ребенка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6616,25 руб.- на третьего и последующи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 -1840,0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5.16г. 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48,6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24% от пла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320040" y="1556640"/>
            <a:ext cx="4232160" cy="367200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45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4680" y="2448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467640" y="11664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08 года № 7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беспечении жильем ветеранов Великой Отечественной войны 1941-1945 годов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3780000" y="764640"/>
            <a:ext cx="43920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Развитие мер социальной поддержки отдельных категорий граждан» государственной программы «Социальная поддержка и социальное обслуживание населения Туль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редусмотрено обеспечение жильем нуждающихся в улучшении жилищных условий ветеранов ВОВ, членов семей погибших (умерших) инвалидов и участников ВОВ, имеющих право на соцподдержку согласно ФЗ «О ветеранах» и ФЗ «О социальной защите инвалидов в Российской Федер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-3020,9 тыс.руб. – средства федераль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C:\Users\Катрина\Desktop\W2mVIlff3kY.jpg"/>
          <p:cNvPicPr/>
          <p:nvPr/>
        </p:nvPicPr>
        <p:blipFill>
          <a:blip r:embed="rId2"/>
          <a:stretch/>
        </p:blipFill>
        <p:spPr>
          <a:xfrm>
            <a:off x="251640" y="1484640"/>
            <a:ext cx="3105720" cy="4168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1"/>
          <p:cNvSpPr/>
          <p:nvPr/>
        </p:nvSpPr>
        <p:spPr>
          <a:xfrm>
            <a:off x="447120" y="2637000"/>
            <a:ext cx="826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 cap="all">
                <a:solidFill>
                  <a:srgbClr val="ffffff"/>
                </a:solidFill>
                <a:latin typeface="Palatino Linotype"/>
              </a:rPr>
              <a:t>БЛАГОДАРЮ за внимание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Объект 6"/>
          <p:cNvGraphicFramePr/>
          <p:nvPr/>
        </p:nvGraphicFramePr>
        <p:xfrm>
          <a:off x="899640" y="548640"/>
          <a:ext cx="7704360" cy="6156360"/>
        </p:xfrm>
        <a:graphic>
          <a:graphicData uri="http://schemas.openxmlformats.org/drawingml/2006/table">
            <a:tbl>
              <a:tblPr/>
              <a:tblGrid>
                <a:gridCol w="551880"/>
                <a:gridCol w="7152480"/>
              </a:tblGrid>
              <a:tr h="66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Указы Президента Российской Федерации от 07.05.201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7 «О мероприятиях по реализации государственной социальной поли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9 «О мерах по реализации государственной политики в области образования и нау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1009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0 «О мерах по обеспечению граждан Российской Федерации доступным и комфортным жильем и повышению качества жилищно-коммунальных услу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1 «Об основных направлениях совершенствования системы государственного управл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98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6 «О мерах по реализации демографической политики РФ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1312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714 от 7 мая 2008г. «Об обеспечении жильем ветеранов Великой Отечественной войны 1941-1945 год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1052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67640" y="12996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7" descr=""/>
          <p:cNvPicPr/>
          <p:nvPr/>
        </p:nvPicPr>
        <p:blipFill>
          <a:blip r:embed="rId1"/>
          <a:stretch/>
        </p:blipFill>
        <p:spPr>
          <a:xfrm>
            <a:off x="-24120" y="1075680"/>
            <a:ext cx="3659760" cy="415296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02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12960" y="105120"/>
            <a:ext cx="639360" cy="64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Таблица 3"/>
          <p:cNvGraphicFramePr/>
          <p:nvPr/>
        </p:nvGraphicFramePr>
        <p:xfrm>
          <a:off x="3924000" y="1441080"/>
          <a:ext cx="4839120" cy="4829040"/>
        </p:xfrm>
        <a:graphic>
          <a:graphicData uri="http://schemas.openxmlformats.org/drawingml/2006/table">
            <a:tbl>
              <a:tblPr/>
              <a:tblGrid>
                <a:gridCol w="2678760"/>
                <a:gridCol w="2160000"/>
              </a:tblGrid>
              <a:tr h="36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016</a:t>
                      </a: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едняя з/пл. в Тульской области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з/пл. в сфере общего образован.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 з/пл. учителей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2224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роц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образовательных учреждений общего образования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дошкольных образовательных учреждений (от средней з/пл в сфере общего образова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учреждений дополнительного образования детей (от  средней з/пл. учителе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296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Работники учреждений культуры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7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771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67640" y="129960"/>
            <a:ext cx="867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Средняя заработная плата работников бюджетной сфе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на 01.04. 2016 года,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Диаграмма 3"/>
          <p:cNvGraphicFramePr/>
          <p:nvPr/>
        </p:nvGraphicFramePr>
        <p:xfrm>
          <a:off x="665640" y="1989000"/>
          <a:ext cx="770436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06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67640" y="129960"/>
            <a:ext cx="835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олная потребность в средствах на реализацию Указа 5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на 2016 год – 3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9 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млн. 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редусмотрено в бюджете муниципального образования Веневский район на 2016 год – 32,3 млн.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Объем недостающих средств – 1,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 млн.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2051640" y="3933000"/>
            <a:ext cx="5112360" cy="237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418320" y="188640"/>
            <a:ext cx="826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23640" y="3899880"/>
            <a:ext cx="835524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4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Мероприятия реализуются  в рамках подпрограмм «Развитие дошкольного образования» (план – 137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1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,исполнено на 01.0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  -32613,8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) и «Развитие дополнительного образования детей» (план – 13446,2 тыс.руб., исполнено  на 01.0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– 4364,3тыс.руб.) муниципальной программы «Развитие образования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7640" y="159840"/>
            <a:ext cx="756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599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реализации государственной политики в области образования и нау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4463640" y="764640"/>
            <a:ext cx="46450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оступность дошк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бразования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ля детей в возрасте от 3 до 7 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г. –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Увеличение к 2020г. числа детей в возрасте от 5 до 18 лет, обучающихся по дополнительным образовательным программам  в общей численности детей этого возраста  до 70-75 % (50 % из них должны обучаться за счет средств федерального бюдж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Users\Катрина\Desktop\09ac72b9e68dd8bd651098a0c17b43f2.jpg"/>
          <p:cNvPicPr/>
          <p:nvPr/>
        </p:nvPicPr>
        <p:blipFill>
          <a:blip r:embed="rId1"/>
          <a:stretch/>
        </p:blipFill>
        <p:spPr>
          <a:xfrm>
            <a:off x="690480" y="980640"/>
            <a:ext cx="3096000" cy="2865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115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76320" y="676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4140000" y="795960"/>
            <a:ext cx="489636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«Комплексное развитие муниципального образования Веневский район в сфере жилищно-коммунального комплекса »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32520" y="4968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14840" y="3406680"/>
            <a:ext cx="8849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«Устойчивое развитие сельских территорий  Веневского района Тульской области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Модернизация и капитальный ремонт объектов коммунальной инфраструктуры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C:\Users\Катрина\Desktop\1441697363_remontnye-raboty-gazoprovod.jpg"/>
          <p:cNvPicPr/>
          <p:nvPr/>
        </p:nvPicPr>
        <p:blipFill>
          <a:blip r:embed="rId1"/>
          <a:stretch/>
        </p:blipFill>
        <p:spPr>
          <a:xfrm>
            <a:off x="335880" y="1016280"/>
            <a:ext cx="3587760" cy="2383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0" name="Picture 4" descr="C:\Users\Катрина\Desktop\image.jpg"/>
          <p:cNvPicPr/>
          <p:nvPr/>
        </p:nvPicPr>
        <p:blipFill>
          <a:blip r:embed="rId2"/>
          <a:stretch/>
        </p:blipFill>
        <p:spPr>
          <a:xfrm>
            <a:off x="15840" y="622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639720" y="1989000"/>
            <a:ext cx="8000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6500,0 тыс.руб.,в том чи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-  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6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(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8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 от плана)-оплата за экспертизу проектной документации по об. «Газификация д.Бяково», оказание услуг по технадзору за качеством строительства об.«Газификация с. Щучье» и «Газификация сл. Стрелецкая», оплата за реконструкцию водопроводных сетей пос. Оленьковский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,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огласование проектной документации по об. «Газификация с. Трухачевка (2 очередь)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467640" y="1124640"/>
            <a:ext cx="8136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стойчивое развитие сельских террито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Веневского района Тульской области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361160" y="4149000"/>
            <a:ext cx="6349680" cy="24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639720" y="2021760"/>
            <a:ext cx="800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21758,8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5.2016г. – 2353,9 тыс.руб.(11%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т плана)-организация водоснабжения в поселениях района: АМО Грицовское, АМО Центральное, АМО Мордвесское, оплата за замену регулятора давления в д.Кукуй, техобслуживание газового оборудования. Запланирована модернизация котлового оборудования котельной «Южная» Веневского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467640" y="1124640"/>
            <a:ext cx="8136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Модернизация и капитальный ремонт объектов коммунальной инфраструктуры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928800" y="3933000"/>
            <a:ext cx="7286400" cy="24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8040</TotalTime>
  <Application>LibreOffice/7.4.7.2$Linux_X86_64 LibreOffice_project/40$Build-2</Application>
  <AppVersion>15.0000</AppVersion>
  <Words>963</Words>
  <Paragraphs>1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0:18:48Z</dcterms:created>
  <dc:creator>Когтева Надежда Борисовна</dc:creator>
  <dc:description/>
  <dc:language>en-US</dc:language>
  <cp:lastModifiedBy>User</cp:lastModifiedBy>
  <cp:lastPrinted>2013-12-05T05:05:20Z</cp:lastPrinted>
  <dcterms:modified xsi:type="dcterms:W3CDTF">2016-05-05T07:24:15Z</dcterms:modified>
  <cp:revision>1039</cp:revision>
  <dc:subject/>
  <dc:title>о реализации отдельных указов Президента Российской Федерации и мониторингу достижения указанных в них целевых показ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