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6400.85</c:v>
                </c:pt>
                <c:pt idx="1">
                  <c:v>23840</c:v>
                </c:pt>
                <c:pt idx="2">
                  <c:v>22968.14</c:v>
                </c:pt>
                <c:pt idx="3">
                  <c:v>17714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Факт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Lbls>
            <c:numFmt formatCode="0.00" sourceLinked="0"/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6435.93</c:v>
                </c:pt>
                <c:pt idx="1">
                  <c:v>24237.96</c:v>
                </c:pt>
                <c:pt idx="2">
                  <c:v>22598.12</c:v>
                </c:pt>
                <c:pt idx="3">
                  <c:v>17743</c:v>
                </c:pt>
              </c:numCache>
            </c:numRef>
          </c:val>
        </c:ser>
        <c:gapWidth val="150"/>
        <c:overlap val="0"/>
        <c:axId val="76465503"/>
        <c:axId val="63345995"/>
      </c:barChart>
      <c:catAx>
        <c:axId val="76465503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 rot="-5400000"/>
          <a:lstStyle/>
          <a:p>
            <a:pPr>
              <a:defRPr b="0" sz="17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63345995"/>
        <c:crosses val="autoZero"/>
        <c:auto val="1"/>
        <c:lblAlgn val="ctr"/>
        <c:lblOffset val="100"/>
        <c:noMultiLvlLbl val="0"/>
      </c:catAx>
      <c:valAx>
        <c:axId val="63345995"/>
        <c:scaling>
          <c:orientation val="minMax"/>
        </c:scaling>
        <c:delete val="0"/>
        <c:axPos val="l"/>
        <c:majorGridlines>
          <c:spPr>
            <a:ln w="1260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76465503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Palatino Linotyp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3CE05-E3A9-4CB7-9EF3-C3018D4CD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3FC799-6CF1-465B-8192-25E11CA2554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AB6A54-E4EB-4B1B-97DD-44029DB7775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CDC3E0-089B-4863-B2C6-0DC66834972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BFDA-0F10-4795-AA40-C4481B89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FF89-5676-4586-B460-67400537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5608-D226-48AB-8BDA-CCA824CB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40BD-84A1-417C-B880-50851021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BD1B7-9383-4C27-BA69-57CE4EBF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CD871-29D7-4585-A13B-B78F8AA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97703-AE4A-4FE5-9E70-092D8E6F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8B187-A0E8-44E2-A446-D0EDD89E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2D0F8-29E1-4F95-9AF2-0F2BD3F0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59666-08F7-4A56-B6DC-01D18F20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C691F-59E1-4E3A-B48E-8A7C10C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5F24-08B6-4810-87AC-3AB3F380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EEA51-6DC7-4823-94FA-043D448C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C7C2B-AC8C-43F3-9C43-BF30439A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27AB-BC8B-4709-96B2-9FA4D712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EA83F-2FF5-4806-9C36-5298FD26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39294-A9F9-4E03-8824-042642C1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B571-FEF1-4449-87E4-2C3A786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C81B-66F0-4A80-9FE5-98FF4D52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7061-3F73-4FE7-A30B-D07016EE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F323-A4C6-4C04-B8F4-BAC0160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CF04-A3D7-48AF-9439-2E2CBFD7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B261-E5C8-4BC3-87B4-0D0D435F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D1CE-67ED-429D-B86A-342D70E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563B308-5540-4F8F-850C-F47E9BB6EC49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8849413-F83B-4037-8FFD-83E9BBDA21B6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Таблица 7"/>
          <p:cNvGraphicFramePr/>
          <p:nvPr/>
        </p:nvGraphicFramePr>
        <p:xfrm>
          <a:off x="263160" y="5013000"/>
          <a:ext cx="8772840" cy="1756440"/>
        </p:xfrm>
        <a:graphic>
          <a:graphicData uri="http://schemas.openxmlformats.org/drawingml/2006/table">
            <a:tbl>
              <a:tblPr>
                <a:effectLst>
                  <a:outerShdw dist="50760" dir="5400000" blurRad="50760" rotWithShape="0">
                    <a:srgbClr val="000000"/>
                  </a:outerShdw>
                </a:effectLst>
              </a:tblPr>
              <a:tblGrid>
                <a:gridCol w="2004120"/>
                <a:gridCol w="6768720"/>
              </a:tblGrid>
              <a:tr h="977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Докладчик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Начальник финансового  управления администрации муниципального образования Веневский рай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монов Анатолий Митрофан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Заголовок 1"/>
          <p:cNvSpPr/>
          <p:nvPr/>
        </p:nvSpPr>
        <p:spPr>
          <a:xfrm>
            <a:off x="395640" y="980640"/>
            <a:ext cx="8280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О результатах реализации майских Указов Президента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на 01.</a:t>
            </a: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10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.2016 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639720" y="188640"/>
            <a:ext cx="77482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252720" y="2203200"/>
            <a:ext cx="4822920" cy="3601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7" name="TextBox 5"/>
          <p:cNvSpPr/>
          <p:nvPr/>
        </p:nvSpPr>
        <p:spPr>
          <a:xfrm>
            <a:off x="5436000" y="1556640"/>
            <a:ext cx="331200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соответствии с законодательством Российской Федерации на 01.10.2015г. 16 молодых семей в Веневском районе признаны нуждающимися в улучшении жилищных условий . В 2016 году запланировано улучшение жилищных условий 7-ми сем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На 01.10.16г. Улучшили свои жилищные условия 3 молодых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639720" y="188640"/>
            <a:ext cx="77482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436000" y="1556640"/>
            <a:ext cx="3312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: всего 2125,7 тыс.руб., в том числе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15,2 тыс.руб. – средства районного бюдж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294,8 тыс.руб. – средства бюджета Туль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15,7 тыс.руб. – средства федерально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10.16 всего1559,3 тыс.руб. (73%), в т.ч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77,8 тыс.руб.-ср-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913,6 тыс.руб. –ср-ва бюджета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67,9 тыс.руб.-ср-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98240" y="2061000"/>
            <a:ext cx="43614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755640" y="23256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1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сновных направлениях совершенствования системы государственного управ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348000" y="742680"/>
            <a:ext cx="561312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 «Развитие информационного общества и формирование электронного правительства в Веневском районе» муниципальной программы «Повышение общественной безопасности населения и развитие местного самоуправлении в муниципальном образовании Веневский район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-1963,8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10.16г. – 359,9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18% от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казание услуг по разработке нового сайта для МУК «МЦБС», оказание услуг связи для учреждений культуры,, информационное обслуживание СПС Консультант Плюс, техобследование и ремонт офисных машин, изготовление сертификата ключа ЭП  для АМО Веневский рай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0" y="3662280"/>
            <a:ext cx="5077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2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Users\Катрина\Desktop\School-Computer-Lab.jpg"/>
          <p:cNvPicPr/>
          <p:nvPr/>
        </p:nvPicPr>
        <p:blipFill>
          <a:blip r:embed="rId1"/>
          <a:stretch/>
        </p:blipFill>
        <p:spPr>
          <a:xfrm>
            <a:off x="320040" y="1416240"/>
            <a:ext cx="2910600" cy="4491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6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7"/>
          <p:cNvSpPr/>
          <p:nvPr/>
        </p:nvSpPr>
        <p:spPr>
          <a:xfrm>
            <a:off x="520200" y="116640"/>
            <a:ext cx="85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 мерах по реализации демографической политики Российской Федераци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552200" y="1374120"/>
            <a:ext cx="446400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правление муниципальными финансами в муниципальном образовании Веневский район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 году выплата материнского капитала в разм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1077,5 руб. – на второго ребенк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6616,25 руб.- на третьего и последующи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 -1840,0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10.16г. 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228,5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67% от пла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320040" y="1556640"/>
            <a:ext cx="4232160" cy="3672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50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4680" y="2448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467640" y="11664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08 года № 7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беспечении жильем ветеранов Великой Отечественной войны 1941-1945 годов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780000" y="764640"/>
            <a:ext cx="43920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Развитие мер социальной поддержки отдельных категорий граждан» государственной программы «Социальная поддержка и социальное обслуживание населения Туль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редусмотрено обеспечение жильем нуждающихся в улучшении жилищных условий ветеранов ВОВ, членов семей погибших (умерших) инвалидов и участников ВОВ, имеющих право на соцподдержку согласно ФЗ «О ветеранах» и ФЗ «О социальной защите инвалидов в Российской Федерац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лан-3020,9 тыс.руб. – средства федерального бюдж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Исполнено на 01.10.16-3020,9 тыс.руб.(100%). Выделена субсидия  двум вдовам умерших  ветеранов ВОВ 1941-1945г.г. и одному инвали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C:\Users\Катрина\Desktop\W2mVIlff3kY.jpg"/>
          <p:cNvPicPr/>
          <p:nvPr/>
        </p:nvPicPr>
        <p:blipFill>
          <a:blip r:embed="rId2"/>
          <a:stretch/>
        </p:blipFill>
        <p:spPr>
          <a:xfrm>
            <a:off x="251640" y="1484640"/>
            <a:ext cx="3105720" cy="416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1"/>
          <p:cNvSpPr/>
          <p:nvPr/>
        </p:nvSpPr>
        <p:spPr>
          <a:xfrm>
            <a:off x="447120" y="2637000"/>
            <a:ext cx="826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 cap="all">
                <a:solidFill>
                  <a:srgbClr val="ffffff"/>
                </a:solidFill>
                <a:latin typeface="Palatino Linotype"/>
              </a:rPr>
              <a:t>БЛАГОДАРЮ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6"/>
          <p:cNvGraphicFramePr/>
          <p:nvPr/>
        </p:nvGraphicFramePr>
        <p:xfrm>
          <a:off x="899640" y="548640"/>
          <a:ext cx="7704360" cy="6156360"/>
        </p:xfrm>
        <a:graphic>
          <a:graphicData uri="http://schemas.openxmlformats.org/drawingml/2006/table">
            <a:tbl>
              <a:tblPr/>
              <a:tblGrid>
                <a:gridCol w="551880"/>
                <a:gridCol w="7152480"/>
              </a:tblGrid>
              <a:tr h="66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Указы Президента Российской Федерации от 07.05.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7 «О мероприятиях по реализации государственной социальной поли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9 «О мерах по реализации государственной политики в области образования и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0 «О мерах по обеспечению граждан Российской Федерации доступным и комфортным жильем и повышению качества жилищно-коммунальных услу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1 «Об основных направлениях совершенствования системы государственного управл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98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6 «О мерах по реализации демографической политики РФ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131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14 от 7 мая 2008г. «Об обеспечении жильем ветеранов Великой Отечественной войны 1941-1945 г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1052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7640" y="12996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1"/>
          <a:stretch/>
        </p:blipFill>
        <p:spPr>
          <a:xfrm>
            <a:off x="-24120" y="1075680"/>
            <a:ext cx="3659760" cy="4152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02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12960" y="105120"/>
            <a:ext cx="639360" cy="64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3"/>
          <p:cNvGraphicFramePr/>
          <p:nvPr/>
        </p:nvGraphicFramePr>
        <p:xfrm>
          <a:off x="3924000" y="1441080"/>
          <a:ext cx="4839120" cy="4829040"/>
        </p:xfrm>
        <a:graphic>
          <a:graphicData uri="http://schemas.openxmlformats.org/drawingml/2006/table">
            <a:tbl>
              <a:tblPr/>
              <a:tblGrid>
                <a:gridCol w="2678760"/>
                <a:gridCol w="2160000"/>
              </a:tblGrid>
              <a:tr h="36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016</a:t>
                      </a: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едняя з/пл. в Тульской области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105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з/пл. в сфере общего образован.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 з/пл. учителей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920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222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роц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образовательных учреждений общего образования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дошкольных образовательных учреждений (от средней з/пл в сфере общего образ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учреждений дополнительного образования детей (от  средней з/пл. учителе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,32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2968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Работники учреждений культуры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0,56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77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7640" y="129960"/>
            <a:ext cx="867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Средняя заработная плата работников бюджетной сф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на 01.</a:t>
            </a:r>
            <a:r>
              <a:rPr b="1" lang="en-US" sz="2000" spc="-1" strike="noStrike">
                <a:solidFill>
                  <a:srgbClr val="ffff00"/>
                </a:solidFill>
                <a:latin typeface="Palatino Linotype"/>
              </a:rPr>
              <a:t>10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.2016 года,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Диаграмма 3"/>
          <p:cNvGraphicFramePr/>
          <p:nvPr/>
        </p:nvGraphicFramePr>
        <p:xfrm>
          <a:off x="665640" y="1989000"/>
          <a:ext cx="770436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06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418320" y="188640"/>
            <a:ext cx="82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23640" y="3899880"/>
            <a:ext cx="835524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4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Мероприятия реализуются  в рамках подпрограмм «Развитие дошкольного образования» (план – 13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7950,3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,исполнено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0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-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83618,00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61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) и «Развитие дополнительного образования детей» (план – 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227,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, исполнено 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0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–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0849,20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71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) муниципальной программы «Развитие образования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827640" y="159840"/>
            <a:ext cx="756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599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реализации государственной политики в области образования и нау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4463640" y="764640"/>
            <a:ext cx="46450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оступность дошк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бразования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ля детей в возрасте от 3 до 7 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г. –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Увеличение к 2020г. числа детей в возрасте от 5 до 18 лет, обучающихся по дополнительным образовательным программам  в общей численности детей этого возраста  до 70-75 % (50 % из них должны обучаться за счет средств федерального бюдж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C:\Users\Катрина\Desktop\09ac72b9e68dd8bd651098a0c17b43f2.jpg"/>
          <p:cNvPicPr/>
          <p:nvPr/>
        </p:nvPicPr>
        <p:blipFill>
          <a:blip r:embed="rId1"/>
          <a:stretch/>
        </p:blipFill>
        <p:spPr>
          <a:xfrm>
            <a:off x="690480" y="980640"/>
            <a:ext cx="3096000" cy="2865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12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76320" y="676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140000" y="795960"/>
            <a:ext cx="48963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«Комплексное развитие муниципального образования Веневский район в сфере жилищно-коммунального комплекса 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32520" y="4968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14840" y="3406680"/>
            <a:ext cx="8849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«Устойчивое развитие сельских территорий  Веневского района Тульской области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Модернизация и капитальный ремонт объектов коммунальной инфраструктуры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C:\Users\Катрина\Desktop\1441697363_remontnye-raboty-gazoprovod.jpg"/>
          <p:cNvPicPr/>
          <p:nvPr/>
        </p:nvPicPr>
        <p:blipFill>
          <a:blip r:embed="rId1"/>
          <a:stretch/>
        </p:blipFill>
        <p:spPr>
          <a:xfrm>
            <a:off x="335880" y="1016280"/>
            <a:ext cx="3587760" cy="2383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7" name="Picture 4" descr="C:\Users\Катрина\Desktop\image.jpg"/>
          <p:cNvPicPr/>
          <p:nvPr/>
        </p:nvPicPr>
        <p:blipFill>
          <a:blip r:embed="rId2"/>
          <a:stretch/>
        </p:blipFill>
        <p:spPr>
          <a:xfrm>
            <a:off x="15840" y="622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639720" y="198900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6313,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,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00,00тыс.руб.-средст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643,6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-средства бюджета Туль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270,1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–средст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0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- 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3144,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 от плана), 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60,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–средст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950,4тыс.руб.-средства бюджета  Туль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33,3тыс.руб.-средства федерально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467640" y="1124640"/>
            <a:ext cx="813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стойчивое развитие сельских террито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Веневского района Тульской области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361160" y="4149000"/>
            <a:ext cx="634968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639720" y="1989000"/>
            <a:ext cx="8000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рамках реализации подпрограммы «Устойчивое развитие сельских территорий Веневского района»  выполнены следующие работы: оплата за экспертизу проектной документации по об. «Газификация д.Бяково», оказание услуг по технадзору за качеством строительства об.«Газификация с. Щучье» и «Газификация сл. Стрелецкая», оплата за реконструкцию водопроводных сетей пос. Оленьковский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,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огласование, проверка проектной документации по об. «Газификация с. Трухачевка (2 очередь)», проверка достоверности сметной стоимости, экспертиза ПД по об. «Газификация с. Венев-Монастырь», проверка сметной документации на реконструкцию водопроводных сетей пос. Мордвес и пос. Грицовский Веневского района, замена  насоса на КНС №1 в пос. Грицовский,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ремонт водопровода в пос. Метростроевский,газификация сл.Стрелецк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39720" y="202176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22358,8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0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2016г. –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3403,1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60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т плана)-организация водоснабжения в поселениях района: АМО Грицовское, АМО Центральное, АМО Мордвесское, оплата за замену регулятора давления в д.Кукуй, техобслуживание газового оборудования,установка колодцев в п.Метростроевский,замена теплосети в п.Грицовский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емонтаж дымовых кирпичных труб кот. п.Каменный,модернизация  кот.«Южная» Веневского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467640" y="1124640"/>
            <a:ext cx="8136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Модернизация и капитальный ремонт объектов коммунальной инфраструктуры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403640" y="4330080"/>
            <a:ext cx="6264360" cy="2050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8279</TotalTime>
  <Application>LibreOffice/7.4.7.2$Linux_X86_64 LibreOffice_project/40$Build-2</Application>
  <AppVersion>15.0000</AppVersion>
  <Words>1184</Words>
  <Paragraphs>1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0:18:48Z</dcterms:created>
  <dc:creator>Когтева Надежда Борисовна</dc:creator>
  <dc:description/>
  <dc:language>en-US</dc:language>
  <cp:lastModifiedBy>User</cp:lastModifiedBy>
  <cp:lastPrinted>2013-12-05T05:05:20Z</cp:lastPrinted>
  <dcterms:modified xsi:type="dcterms:W3CDTF">2016-10-06T08:27:04Z</dcterms:modified>
  <cp:revision>1085</cp:revision>
  <dc:subject/>
  <dc:title>о реализации отдельных указов Президента Российской Федерации и мониторингу достижения указанных в них целевых показ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