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Дополнительное образование</c:v>
                </c:pt>
                <c:pt idx="1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2968.14</c:v>
                </c:pt>
                <c:pt idx="1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Lbls>
            <c:numFmt formatCode="0.00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Дополнительное образование</c:v>
                </c:pt>
                <c:pt idx="1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9595.4</c:v>
                </c:pt>
                <c:pt idx="1">
                  <c:v>17751.1</c:v>
                </c:pt>
              </c:numCache>
            </c:numRef>
          </c:val>
        </c:ser>
        <c:gapWidth val="150"/>
        <c:overlap val="0"/>
        <c:axId val="57184053"/>
        <c:axId val="3071898"/>
      </c:barChart>
      <c:catAx>
        <c:axId val="5718405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3071898"/>
        <c:crosses val="autoZero"/>
        <c:auto val="1"/>
        <c:lblAlgn val="ctr"/>
        <c:lblOffset val="100"/>
        <c:noMultiLvlLbl val="0"/>
      </c:catAx>
      <c:valAx>
        <c:axId val="3071898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57184053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A64C75-7599-4B12-BA66-8E5A8A483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3F47AB-A2DA-4135-86D2-62F9A997277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0131C4-F5E6-49D8-9166-108BE842F8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008B78-9E1D-4818-9F90-FCDD6CBADD2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50E1-F2AF-4395-AADB-24315E64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515B-BDFC-4B8A-A3D8-E4166D95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D294-8490-49C0-9F03-F618DF07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C9DA-E897-419F-9278-2C7CB289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ED366-1024-45EF-8005-1DF8E4FD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CF388-E882-4F3B-A8C2-1739F81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746C-65EA-412D-BDA1-6F0947A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9CED1-FF74-4F9B-A73B-C2F3CF26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93CBF-9842-4005-8E29-EF74A9A8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71E2-6C83-41CE-85B2-F50C803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2376C-F332-43BA-8EC5-BF9D40D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34C3-FCC1-4934-AFBF-AD72D32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6A33-B48C-48D8-8B84-B873D8A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8991-9605-4919-B70F-90528C03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2086A-A01B-4D9A-8AD2-9B1AD0EF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F6D7-1FA1-4E65-8C4E-8C5A95B3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F20CA-7E6E-43E1-9239-BD2E7C71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FB05-65C8-4F2D-8D99-9F1C05C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6FA7-80BE-4523-ADD6-4659DB38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D1E9-ABCA-4621-B9D0-1B45ABA8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4D54-1CDA-4E57-B9BC-EF8E143F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633B-9764-41AC-BA41-9251607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2428-69E1-4A0E-9339-BE1A91E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41C1-AD53-4F55-9927-6F296E8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72374CB-1418-4478-B730-4B1175C47678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D70119-1EBE-49B1-9FF8-BC84548AF5D1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0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.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39720" y="202176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23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2016г. –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132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23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-организация водоснабжения в поселениях района: АМО Грицовское, АМО Центральное, АМО Мордвесское, оплата за замену регулятора давления в д.Кукуй, техобслуживание газового оборудования,установка колодцев в п.Метростроевский,замена теплосети в п.Грицовский.Произведены работы по модернизации котлового оборудования кот.«Южная» Вене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403640" y="4330080"/>
            <a:ext cx="6264360" cy="2050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0" name="TextBox 5"/>
          <p:cNvSpPr/>
          <p:nvPr/>
        </p:nvSpPr>
        <p:spPr>
          <a:xfrm>
            <a:off x="5436000" y="1556640"/>
            <a:ext cx="33120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На 01.09.16г. Улучшили свои жилищные условия 3 молодых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639720" y="188640"/>
            <a:ext cx="77482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436000" y="1556640"/>
            <a:ext cx="331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: всего 2125,7 тыс.руб., в том числе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15,2 тыс.руб. – 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94,8 тыс.руб. – средства бюджета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15,7 тыс.руб. – 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9.16 всего1559,3 тыс.руб. (73%), в т.ч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77,8 тыс.руб.-ср-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13,6 тыс.руб. –ср-ва бюджета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69,9 тыс.руб.-ср-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98240" y="2061000"/>
            <a:ext cx="43614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3348000" y="742680"/>
            <a:ext cx="561312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9.16г. – 339,5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17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учреждений культуры,, информационное обслуживание СПС Консультант Плюс, техобследование и ремонт офисных машин, изготовление сертификата ключа ЭП  для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9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9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062,3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58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53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3780000" y="764640"/>
            <a:ext cx="4392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лан-3020,9 тыс.руб. – средства федерального бюдж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Исполнено на 01.08.16-3020,9 тыс.руб.(100%). Выделена субсидия  двум вдовам умерших  ветеранов ВОВ 1941-1945г.г. и одному инвал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105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920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,32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0,56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0</a:t>
            </a:r>
            <a:r>
              <a:rPr b="1" lang="en-US" sz="2000" spc="-1" strike="noStrike">
                <a:solidFill>
                  <a:srgbClr val="ffff00"/>
                </a:solidFill>
                <a:latin typeface="Palatino Linotype"/>
              </a:rPr>
              <a:t>9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.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9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950,3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4222,0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и «Развитие дополнительного образования детей» (план – 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27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 исполнено 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0022,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6313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00,00тыс.руб.-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643,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-средства бюджета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70,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3144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, 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60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50,4тыс.руб.-средства бюджета 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33,3тыс.руб.-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1989000"/>
            <a:ext cx="8000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рамках реализации подпрограммы «Устойчивое развитие сельских территорий Веневского района»  выполнены следующие работы: оплата за экспертизу проектной документации по об. «Газификация д.Бяково», оказание услуг по технадзору за качеством строительства об.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,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огласование, проверка проектной документации по об. «Газификация с. Трухачевка (2 очередь)», проверка достоверности сметной стоимости, экспертиза ПД по об. «Газификация с. Венев-Монастырь», проверка сметной документации на реконструкцию водопроводных сетей пос. Мордвес и пос. Грицовский Веневского района, замена  насоса на КНС №1 в пос. Грицовский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ремонт водопровода в пос. Метростроевский,газификация сл.Стрелец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8265</TotalTime>
  <Application>LibreOffice/7.4.7.2$Linux_X86_64 LibreOffice_project/40$Build-2</Application>
  <AppVersion>15.0000</AppVersion>
  <Words>1191</Words>
  <Paragraphs>1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10-06T06:52:41Z</dcterms:modified>
  <cp:revision>1080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