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План</c:v>
                </c:pt>
              </c:strCache>
            </c:strRef>
          </c:tx>
          <c:spPr>
            <a:solidFill>
              <a:srgbClr val="629dd1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rot="-5400000"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Palatino Linotype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Общее образование</c:v>
                </c:pt>
                <c:pt idx="1">
                  <c:v>Дошкольное образование</c:v>
                </c:pt>
                <c:pt idx="2">
                  <c:v>Дополнительное образование</c:v>
                </c:pt>
                <c:pt idx="3">
                  <c:v>Работники культуры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6400.85</c:v>
                </c:pt>
                <c:pt idx="1">
                  <c:v>23840</c:v>
                </c:pt>
                <c:pt idx="2">
                  <c:v>22968.14</c:v>
                </c:pt>
                <c:pt idx="3">
                  <c:v>17714.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Факт</c:v>
                </c:pt>
              </c:strCache>
            </c:strRef>
          </c:tx>
          <c:spPr>
            <a:solidFill>
              <a:srgbClr val="297fd5"/>
            </a:solidFill>
            <a:ln w="0">
              <a:noFill/>
            </a:ln>
          </c:spPr>
          <c:invertIfNegative val="0"/>
          <c:dLbls>
            <c:numFmt formatCode="0.00" sourceLinked="0"/>
            <c:txPr>
              <a:bodyPr rot="-5400000"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Palatino Linotype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Общее образование</c:v>
                </c:pt>
                <c:pt idx="1">
                  <c:v>Дошкольное образование</c:v>
                </c:pt>
                <c:pt idx="2">
                  <c:v>Дополнительное образование</c:v>
                </c:pt>
                <c:pt idx="3">
                  <c:v>Работники культуры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4422.16</c:v>
                </c:pt>
                <c:pt idx="1">
                  <c:v>34648.59</c:v>
                </c:pt>
                <c:pt idx="2">
                  <c:v>22861.7</c:v>
                </c:pt>
                <c:pt idx="3">
                  <c:v>16500</c:v>
                </c:pt>
              </c:numCache>
            </c:numRef>
          </c:val>
        </c:ser>
        <c:gapWidth val="150"/>
        <c:overlap val="0"/>
        <c:axId val="76755321"/>
        <c:axId val="37258850"/>
      </c:barChart>
      <c:catAx>
        <c:axId val="76755321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12600">
            <a:solidFill>
              <a:srgbClr val="ffffff"/>
            </a:solidFill>
            <a:round/>
          </a:ln>
        </c:spPr>
        <c:txPr>
          <a:bodyPr rot="-5400000"/>
          <a:lstStyle/>
          <a:p>
            <a:pPr>
              <a:defRPr b="0" sz="1700" spc="-1" strike="noStrike">
                <a:solidFill>
                  <a:srgbClr val="ffffff"/>
                </a:solidFill>
                <a:latin typeface="Palatino Linotype"/>
              </a:defRPr>
            </a:pPr>
          </a:p>
        </c:txPr>
        <c:crossAx val="37258850"/>
        <c:crosses val="autoZero"/>
        <c:auto val="1"/>
        <c:lblAlgn val="ctr"/>
        <c:lblOffset val="100"/>
        <c:noMultiLvlLbl val="0"/>
      </c:catAx>
      <c:valAx>
        <c:axId val="37258850"/>
        <c:scaling>
          <c:orientation val="minMax"/>
        </c:scaling>
        <c:delete val="0"/>
        <c:axPos val="l"/>
        <c:majorGridlines>
          <c:spPr>
            <a:ln w="12600">
              <a:solidFill>
                <a:srgbClr val="fffff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1260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Palatino Linotype"/>
              </a:defRPr>
            </a:pPr>
          </a:p>
        </c:txPr>
        <c:crossAx val="76755321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ffffff"/>
              </a:solidFill>
              <a:latin typeface="Palatino Linotyp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FAA8C7-15F3-4A96-9E6F-EA58CB229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B5E9FE-BFB4-4728-A7EE-6341B2C76C9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8A152A-B42E-47FC-99B2-835A215A50F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9BA584-741E-4A92-92DE-452D7AFC3A8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8D259-C556-4977-ACAB-21FB2D13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D449-FB6E-44E5-9304-576807A4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F186E-03B1-42A3-BFF8-C51E28C7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EBA8E-62C4-4C70-A4CC-E31BB570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83613-8918-45E8-8C0F-6D2FD519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48395-56A5-4759-9AC9-407C7355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34D5A-6A00-4A54-BC43-82A6245F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6E3EC-7A43-4E69-BD16-424A42CF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F886B-16E1-4D2B-83CF-92632182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F9029-CB59-4A60-80F6-30E16799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E0CA0-D2F7-4EA5-A123-20DF4AA7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3354D-9360-4D5A-842B-F0B9EC37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CC778-55D8-40AA-8E6E-418B1B4A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B8544-1062-4B5C-953F-DBF6BDE4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0AE1E-ED16-4727-B952-CBE423B7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F73FF-EC73-40E8-B113-7377B5C2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2FC0D-AE95-4473-ADCD-21150909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A81C0-7FE0-430E-9D26-7679383F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F3C83-9A9D-4406-8B35-A16740AB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C1EEA-7A66-4E78-B09E-DC634E01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18985-C49C-4598-8A90-50634C63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94ABD-B4B0-489B-B290-3D701905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514D2-D674-4C6F-A825-4B861499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96D62-D0B0-47D6-9EBC-C7AA1E0F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3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Образец заголовка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99B97B5-9FB9-4B2D-846B-C03555ED9B8D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3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8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5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7F20B87-E6F8-4FDB-B5DB-DF89D69D9DBB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6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Таблица 7"/>
          <p:cNvGraphicFramePr/>
          <p:nvPr/>
        </p:nvGraphicFramePr>
        <p:xfrm>
          <a:off x="263160" y="5013000"/>
          <a:ext cx="8772840" cy="1756440"/>
        </p:xfrm>
        <a:graphic>
          <a:graphicData uri="http://schemas.openxmlformats.org/drawingml/2006/table">
            <a:tbl>
              <a:tblPr>
                <a:effectLst>
                  <a:outerShdw dist="50760" dir="5400000" blurRad="50760" rotWithShape="0">
                    <a:srgbClr val="000000"/>
                  </a:outerShdw>
                </a:effectLst>
              </a:tblPr>
              <a:tblGrid>
                <a:gridCol w="2004120"/>
                <a:gridCol w="6768720"/>
              </a:tblGrid>
              <a:tr h="9777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Докладчик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Начальник финансового  управления администрации муниципального образования Веневский район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монов Анатолий Митрофанови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Заголовок 1"/>
          <p:cNvSpPr/>
          <p:nvPr/>
        </p:nvSpPr>
        <p:spPr>
          <a:xfrm>
            <a:off x="395640" y="980640"/>
            <a:ext cx="8280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О результатах реализации майских Указов Президента Российской Федер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на 01.0</a:t>
            </a: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8</a:t>
            </a: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. 2016 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467640" y="15012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639720" y="1170000"/>
            <a:ext cx="81082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639720" y="2021760"/>
            <a:ext cx="800028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: всего 22358,8 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08 0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2016г. –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4280,2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(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19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%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т плана)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рганизация водоснабжения в поселениях района: АМО Грицовское, АМО Центральное, АМО Мордвесское, оплата за замену регулятора давления в д.Кукуй, техобслуживание газового оборудования, замена теплосети в п.Грицовский, модернизация котельной «Южная» Веневского рай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3824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467640" y="1124640"/>
            <a:ext cx="8136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Подпрограмма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Модернизация и капитальный ремонт объектов коммунальной инфраструктуры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928800" y="3933000"/>
            <a:ext cx="7286400" cy="2448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8172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4"/>
          <p:cNvSpPr/>
          <p:nvPr/>
        </p:nvSpPr>
        <p:spPr>
          <a:xfrm>
            <a:off x="639720" y="188640"/>
            <a:ext cx="774828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«Обеспечение жильем молодых семей на территории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52720" y="2203200"/>
            <a:ext cx="4822920" cy="3601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40" name="TextBox 5"/>
          <p:cNvSpPr/>
          <p:nvPr/>
        </p:nvSpPr>
        <p:spPr>
          <a:xfrm>
            <a:off x="5436000" y="1556640"/>
            <a:ext cx="3312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соответствии с законодательством Российской Федерации на 01.09.2015г. 16 молодых семей в Веневском районе признаны нуждающимися в улучшении жилищных условий . В 2016 году запланировано улучшение жилищных условий 7-ми сем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8172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4"/>
          <p:cNvSpPr/>
          <p:nvPr/>
        </p:nvSpPr>
        <p:spPr>
          <a:xfrm>
            <a:off x="639720" y="188640"/>
            <a:ext cx="77482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«Обеспечение жильем молодых семей на территории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5436000" y="1556640"/>
            <a:ext cx="33120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: всего 2125,7 тыс.руб., в том числе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215,2 тыс.руб. – средства районного бюдже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294,8 тыс.руб. – средства бюджета Тульской обла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615,7 тыс.руб. – средства федерального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08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16 всего 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997,9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 (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47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%), в т.ч.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113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7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-ср-ва район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84,7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 –ср-ва бюджета 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299,5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-ср-ва федераль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498240" y="2061000"/>
            <a:ext cx="4361400" cy="39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755640" y="232560"/>
            <a:ext cx="806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1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б основных направлениях совершенствования системы государственного управлени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3348000" y="742680"/>
            <a:ext cx="561312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 «Развитие информационного общества и формирование электронного правительства в Веневском районе» муниципальной программы «Повышение общественной безопасности населения и развитие местного самоуправлении в муниципальном образовании Веневский район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за счет средств районного бюджета-1963,8 тыс.ру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08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16г. – 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,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(1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% от план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казание услуг по разработке нового сайта для МУК «МЦБС», оказание услуг связи для учреждений культуры,, информационное обслуживание СПС Консультант Плюс,техобследование и ремонт офисных машин, изготовление сертификата ключа ЭП  для АМО Веневский рай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0" y="3662280"/>
            <a:ext cx="50778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22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C:\Users\Катрина\Desktop\School-Computer-Lab.jpg"/>
          <p:cNvPicPr/>
          <p:nvPr/>
        </p:nvPicPr>
        <p:blipFill>
          <a:blip r:embed="rId1"/>
          <a:stretch/>
        </p:blipFill>
        <p:spPr>
          <a:xfrm>
            <a:off x="320040" y="1416240"/>
            <a:ext cx="2910600" cy="4491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9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0" y="964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7"/>
          <p:cNvSpPr/>
          <p:nvPr/>
        </p:nvSpPr>
        <p:spPr>
          <a:xfrm>
            <a:off x="520200" y="116640"/>
            <a:ext cx="851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6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О мерах по реализации демографической политики Российской Федераци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4552200" y="1374120"/>
            <a:ext cx="4464000" cy="50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Муниципальная программ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Управление муниципальными финансами в муниципальном образовании Веневский район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2016 году выплата материнского капитала в разме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1077,5 руб. – на второго ребенка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6616,25 руб.- на третьего и последующих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за счет средств районного бюджета -1840,0тыс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08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16г. 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062,3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19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8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% от план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Рисунок 1" descr=""/>
          <p:cNvPicPr/>
          <p:nvPr/>
        </p:nvPicPr>
        <p:blipFill>
          <a:blip r:embed="rId1"/>
          <a:stretch/>
        </p:blipFill>
        <p:spPr>
          <a:xfrm>
            <a:off x="320040" y="1556640"/>
            <a:ext cx="4232160" cy="367200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pic>
        <p:nvPicPr>
          <p:cNvPr id="153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0" y="964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4680" y="2448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4"/>
          <p:cNvSpPr/>
          <p:nvPr/>
        </p:nvSpPr>
        <p:spPr>
          <a:xfrm>
            <a:off x="467640" y="116640"/>
            <a:ext cx="84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08 года № 714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б обеспечении жильем ветеранов Великой Отечественной войны 1941-1945 годов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3780000" y="764640"/>
            <a:ext cx="439200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Palatino Linotype"/>
              </a:rPr>
              <a:t>Подпрограмма «Развитие мер социальной поддержки отдельных категорий граждан» государственной программы «Социальная поддержка и социальное обслуживание населения Тульской обла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Предусмотрено обеспечение жильем нуждающихся в улучшении жилищных условий ветеранов ВОВ, членов семей погибших (умерших) инвалидов и участников ВОВ, имеющих право на соцподдержку согласно ФЗ «О ветеранах» и ФЗ «О социальной защите инвалидов в Российской Федераци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План-3020,9 тыс.руб. – средства федерального бюдж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Исполнено на 01.</a:t>
            </a:r>
            <a:r>
              <a:rPr b="1" lang="en-US" sz="1600" spc="-1" strike="noStrike">
                <a:solidFill>
                  <a:srgbClr val="ffffff"/>
                </a:solidFill>
                <a:latin typeface="Palatino Linotype"/>
              </a:rPr>
              <a:t>08</a:t>
            </a: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.16-3020,9 тыс.руб.(100%). Выделена субсидия  двум вдовам умерших  ветеранов ВОВ 1941-1945г.г. и одному инвали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C:\Users\Катрина\Desktop\W2mVIlff3kY.jpg"/>
          <p:cNvPicPr/>
          <p:nvPr/>
        </p:nvPicPr>
        <p:blipFill>
          <a:blip r:embed="rId2"/>
          <a:stretch/>
        </p:blipFill>
        <p:spPr>
          <a:xfrm>
            <a:off x="251640" y="1484640"/>
            <a:ext cx="3105720" cy="4168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Заголовок 1"/>
          <p:cNvSpPr/>
          <p:nvPr/>
        </p:nvSpPr>
        <p:spPr>
          <a:xfrm>
            <a:off x="447120" y="2637000"/>
            <a:ext cx="8260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</a:pPr>
            <a:r>
              <a:rPr b="1" lang="ru-RU" sz="3500" spc="-1" strike="noStrike" cap="all">
                <a:solidFill>
                  <a:srgbClr val="ffffff"/>
                </a:solidFill>
                <a:latin typeface="Palatino Linotype"/>
              </a:rPr>
              <a:t>БЛАГОДАРЮ за внимание!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Объект 6"/>
          <p:cNvGraphicFramePr/>
          <p:nvPr/>
        </p:nvGraphicFramePr>
        <p:xfrm>
          <a:off x="899640" y="548640"/>
          <a:ext cx="7704360" cy="6156360"/>
        </p:xfrm>
        <a:graphic>
          <a:graphicData uri="http://schemas.openxmlformats.org/drawingml/2006/table">
            <a:tbl>
              <a:tblPr/>
              <a:tblGrid>
                <a:gridCol w="551880"/>
                <a:gridCol w="7152480"/>
              </a:tblGrid>
              <a:tr h="66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Указы Президента Российской Федерации от 07.05.2012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97 «О мероприятиях по реализации государственной социальной полити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99 «О мерах по реализации государственной политики в области образования и нау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1009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0 «О мерах по обеспечению граждан Российской Федерации доступным и комфортным жильем и повышению качества жилищно-коммунальных услуг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70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1 «Об основных направлениях совершенствования системы государственного управлен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984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06 «О мерах по реализации демографической политики РФ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1312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714 от 7 мая 2008г. «Об обеспечении жильем ветеранов Великой Отечественной войны 1941-1945 годов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</a:tbl>
          </a:graphicData>
        </a:graphic>
      </p:graphicFrame>
      <p:pic>
        <p:nvPicPr>
          <p:cNvPr id="99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1052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67640" y="129960"/>
            <a:ext cx="84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7" descr=""/>
          <p:cNvPicPr/>
          <p:nvPr/>
        </p:nvPicPr>
        <p:blipFill>
          <a:blip r:embed="rId1"/>
          <a:stretch/>
        </p:blipFill>
        <p:spPr>
          <a:xfrm>
            <a:off x="-24120" y="1075680"/>
            <a:ext cx="3659760" cy="415296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pic>
        <p:nvPicPr>
          <p:cNvPr id="102" name="Picture 2" descr="C:\Users\Катрина\Desktop\image.jpg"/>
          <p:cNvPicPr/>
          <p:nvPr/>
        </p:nvPicPr>
        <p:blipFill>
          <a:blip r:embed="rId2"/>
          <a:stretch/>
        </p:blipFill>
        <p:spPr>
          <a:xfrm>
            <a:off x="12960" y="105120"/>
            <a:ext cx="639360" cy="64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Таблица 3"/>
          <p:cNvGraphicFramePr/>
          <p:nvPr/>
        </p:nvGraphicFramePr>
        <p:xfrm>
          <a:off x="3924000" y="1441080"/>
          <a:ext cx="4839120" cy="4829040"/>
        </p:xfrm>
        <a:graphic>
          <a:graphicData uri="http://schemas.openxmlformats.org/drawingml/2006/table">
            <a:tbl>
              <a:tblPr/>
              <a:tblGrid>
                <a:gridCol w="2678760"/>
                <a:gridCol w="2160000"/>
              </a:tblGrid>
              <a:tr h="36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016</a:t>
                      </a: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420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едняя з/пл. в Тульской области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105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458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.з/пл. в сфере общего образован. по субъекту РФ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38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420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р. з/пл. учителей по субъекту РФ,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6</a:t>
                      </a: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920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22248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роц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образовательных учреждений общего образования (от средней з/пл. в Тульской област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6400,</a:t>
                      </a: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дошкольных образовательных учреждений (от средней з/пл в сфере общего образования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38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  <a:tr h="637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ед.работники учреждений дополнительного образования детей (от  средней з/пл. учителей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8</a:t>
                      </a: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5,32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22968,</a:t>
                      </a: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cf7"/>
                    </a:solidFill>
                  </a:tcPr>
                </a:tc>
              </a:tr>
              <a:tr h="458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Работники учреждений культуры (от средней з/пл. в Тульской област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en-US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70,56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Palatino Linotype"/>
                        </a:rPr>
                        <a:t>17714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7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467640" y="129960"/>
            <a:ext cx="867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Средняя заработная плата работников бюджетной сфе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на 01.</a:t>
            </a:r>
            <a:r>
              <a:rPr b="1" lang="en-US" sz="2000" spc="-1" strike="noStrike">
                <a:solidFill>
                  <a:srgbClr val="ffff00"/>
                </a:solidFill>
                <a:latin typeface="Palatino Linotype"/>
              </a:rPr>
              <a:t>10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. 2016 года,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Диаграмма 3"/>
          <p:cNvGraphicFramePr/>
          <p:nvPr/>
        </p:nvGraphicFramePr>
        <p:xfrm>
          <a:off x="665640" y="1989000"/>
          <a:ext cx="7704360" cy="406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106" name="Picture 2" descr="C:\Users\Катрина\Desktop\image.jpg"/>
          <p:cNvPicPr/>
          <p:nvPr/>
        </p:nvPicPr>
        <p:blipFill>
          <a:blip r:embed="rId2"/>
          <a:stretch/>
        </p:blipFill>
        <p:spPr>
          <a:xfrm>
            <a:off x="25560" y="6120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467640" y="129960"/>
            <a:ext cx="8352720" cy="35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597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оприятиях по реализации государственной социальной полити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Полная потребность в средствах на реализацию Указа 5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на 2016 год – 3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9 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млн. руб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предусмотрено в бюджете муниципального образования Веневский район на 2016 год – 32,3 млн.руб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Объем недостающих средств – 1,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6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 млн. р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25560" y="61200"/>
            <a:ext cx="639360" cy="645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2051640" y="3933000"/>
            <a:ext cx="5112360" cy="237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1"/>
          <p:cNvSpPr/>
          <p:nvPr/>
        </p:nvSpPr>
        <p:spPr>
          <a:xfrm>
            <a:off x="418320" y="188640"/>
            <a:ext cx="8260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 cap="all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323640" y="3899880"/>
            <a:ext cx="835524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4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Мероприятия реализуются  в рамках подпрограмм «Развитие дошкольного образования» (план – 13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7950,3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тыс.руб.,исполнено на 01.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08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16г. -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65700,50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тыс.руб.(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48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%) и «Развитие дополнительного образования детей» (план – 1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227,4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, исполнено  на 01.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08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16г. – 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9240,2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тыс.руб.(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61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%) муниципальной программы «Развитие образования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7640" y="159840"/>
            <a:ext cx="756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599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реализации государственной политики в области образования и науки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4463640" y="764640"/>
            <a:ext cx="46450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Доступность дошк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образования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для детей в возрасте от 3 до 7 л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2016г. – 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Увеличение к 2020г. числа детей в возрасте от 5 до 18 лет, обучающихся по дополнительным образовательным программам  в общей численности детей этого возраста  до 70-75 % (50 % из них должны обучаться за счет средств федерального бюдже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C:\Users\Катрина\Desktop\09ac72b9e68dd8bd651098a0c17b43f2.jpg"/>
          <p:cNvPicPr/>
          <p:nvPr/>
        </p:nvPicPr>
        <p:blipFill>
          <a:blip r:embed="rId1"/>
          <a:stretch/>
        </p:blipFill>
        <p:spPr>
          <a:xfrm>
            <a:off x="690480" y="980640"/>
            <a:ext cx="3096000" cy="28656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pic>
        <p:nvPicPr>
          <p:cNvPr id="115" name="Picture 3" descr="C:\Users\Катрина\Desktop\image.jpg"/>
          <p:cNvPicPr/>
          <p:nvPr/>
        </p:nvPicPr>
        <p:blipFill>
          <a:blip r:embed="rId2"/>
          <a:stretch/>
        </p:blipFill>
        <p:spPr>
          <a:xfrm>
            <a:off x="76320" y="676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4140000" y="795960"/>
            <a:ext cx="489636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Муниципальная программа «Комплексное развитие муниципального образования Веневский район в сфере жилищно-коммунального комплекса »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632520" y="4968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14840" y="3406680"/>
            <a:ext cx="8849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«Устойчивое развитие сельских территорий  Веневского района Тульской области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«Модернизация и капитальный ремонт объектов коммунальной инфраструктуры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 подпрограмма «Обеспечение жильем молодых семей на территории Веневского района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3" descr="C:\Users\Катрина\Desktop\1441697363_remontnye-raboty-gazoprovod.jpg"/>
          <p:cNvPicPr/>
          <p:nvPr/>
        </p:nvPicPr>
        <p:blipFill>
          <a:blip r:embed="rId1"/>
          <a:stretch/>
        </p:blipFill>
        <p:spPr>
          <a:xfrm>
            <a:off x="335880" y="1016280"/>
            <a:ext cx="3587760" cy="2383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20" name="Picture 4" descr="C:\Users\Катрина\Desktop\image.jpg"/>
          <p:cNvPicPr/>
          <p:nvPr/>
        </p:nvPicPr>
        <p:blipFill>
          <a:blip r:embed="rId2"/>
          <a:stretch/>
        </p:blipFill>
        <p:spPr>
          <a:xfrm>
            <a:off x="15840" y="6228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467640" y="15012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639720" y="1170000"/>
            <a:ext cx="81082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639720" y="1989000"/>
            <a:ext cx="8000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План : всего 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16313,7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,в том чис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4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00,00тыс.руб.-средства район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4643,6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-средства бюджета Туль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270,1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 –средства федераль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Исполнено на 01.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08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16г. -  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3144,4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(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19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% от плана), в том чис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560,7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 тыс.руб. –средства районного 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950,4тыс.руб.-средства бюджета  Туль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633,3тыс.руб.-средства федерального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38240"/>
            <a:ext cx="639360" cy="6458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3"/>
          <p:cNvSpPr/>
          <p:nvPr/>
        </p:nvSpPr>
        <p:spPr>
          <a:xfrm>
            <a:off x="467640" y="1124640"/>
            <a:ext cx="81367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Подпрограмма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«Устойчивое развитие сельских террито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Palatino Linotype"/>
              </a:rPr>
              <a:t>Веневского района Тульской области 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361160" y="4149000"/>
            <a:ext cx="6349680" cy="2448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467640" y="150120"/>
            <a:ext cx="8280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Указ Президента Российской Федерации от 7 мая 2012 года № </a:t>
            </a: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600</a:t>
            </a: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«О мерах по обеспечению граждан Российской Федерации доступным и комфортным жильем и повышению качества жилищно-коммунальных услуг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639720" y="1170000"/>
            <a:ext cx="81082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639720" y="1989000"/>
            <a:ext cx="80002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В рамках реализации подпрограммы «Устойчивое развитие сельских территорий Веневского района»  выполнены следующие работы: оплата за экспертизу проектной документации по об. «Газификация д.Бяково», оказание услуг по технадзору за качеством строительства об.«Газификация с. Щучье» и «Газификация сл. Стрелецкая», оплата за реконструкцию водопроводных сетей пос. Оленьковский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,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согласование, проверка проектной документации по об. «Газификация с. Трухачевка (2 очередь)», проверка достоверности сметной стоимости, экспертиза ПД по об. «Газификация с. Венев-Монастырь», проверка сметной документации на реконструкцию водопроводных сетей пос. Мордвес и пос. Грицовский Веневского района, замена  насоса на КНС №1 в пос. Грицовский,</a:t>
            </a: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ремонт водопровода в пос. Метростроевский,газификация сл.Стрелецк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C:\Users\Катрина\Desktop\image.jpg"/>
          <p:cNvPicPr/>
          <p:nvPr/>
        </p:nvPicPr>
        <p:blipFill>
          <a:blip r:embed="rId1"/>
          <a:stretch/>
        </p:blipFill>
        <p:spPr>
          <a:xfrm>
            <a:off x="0" y="138240"/>
            <a:ext cx="63936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theme/theme1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8375</TotalTime>
  <Application>LibreOffice/7.4.7.2$Linux_X86_64 LibreOffice_project/40$Build-2</Application>
  <AppVersion>15.0000</AppVersion>
  <Words>1193</Words>
  <Paragraphs>1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10:18:48Z</dcterms:created>
  <dc:creator>Когтева Надежда Борисовна</dc:creator>
  <dc:description/>
  <dc:language>en-US</dc:language>
  <cp:lastModifiedBy>User</cp:lastModifiedBy>
  <cp:lastPrinted>2013-12-05T05:05:20Z</cp:lastPrinted>
  <dcterms:modified xsi:type="dcterms:W3CDTF">2016-10-06T09:26:35Z</dcterms:modified>
  <cp:revision>1084</cp:revision>
  <dc:subject/>
  <dc:title>о реализации отдельных указов Президента Российской Федерации и мониторингу достижения указанных в них целевых показател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16</vt:r8>
  </property>
</Properties>
</file>